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0.wmf" ContentType="image/x-wmf"/>
  <Override PartName="/ppt/media/image4.jpeg" ContentType="image/jpeg"/>
  <Override PartName="/ppt/media/image25.png" ContentType="image/png"/>
  <Override PartName="/ppt/media/image7.jpeg" ContentType="image/jpeg"/>
  <Override PartName="/ppt/media/image28.jpeg" ContentType="image/jpeg"/>
  <Override PartName="/ppt/media/image11.jpeg" ContentType="image/jpeg"/>
  <Override PartName="/ppt/media/image6.jpeg" ContentType="image/jpeg"/>
  <Override PartName="/ppt/media/image27.wmf" ContentType="image/x-wmf"/>
  <Override PartName="/ppt/media/image24.gif" ContentType="image/gif"/>
  <Override PartName="/ppt/media/image16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gif" ContentType="image/gif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23.gif" ContentType="image/gif"/>
  <Override PartName="/ppt/media/image2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6E0D-905D-4337-A5DD-52A586032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EF36-52C9-4127-84C7-4360C5B41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1B30-6DF5-45CA-9568-8E050F1AB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CAD3-EEF7-492D-8898-B1E251F71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2FFF-CF59-4A73-B57E-F3979814E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45D6-21F9-4DD5-A718-16B77FFB7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7AD3-9177-4906-BEEA-1FEC8464D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0A81-C89B-4A30-BE02-7793B7D26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9D87-9AAE-40E5-BB0D-05DC2F558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AEB0-C868-4935-B046-8CD6C1E77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1F60-DCB4-4C3B-ABA6-A39F32C55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3544-FC8E-4FFD-A695-E833ADC4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51320-8F9C-4455-8F6F-58A377B37B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6.jpeg"/><Relationship Id="rId12" Type="http://schemas.openxmlformats.org/officeDocument/2006/relationships/hyperlink" Target="http://images.google.com.ar/imgres?imgurl=http://www.zonalibre.org/blog/moe/archives/imagenes/sarten%255B1%255D.jpg&amp;imgrefurl=http://www.zonalibre.org/blog/moe/archives/2004_07.html&amp;h=280&amp;w=280&amp;sz=12&amp;hl=es&amp;start=4&amp;um=1&amp;tbnid=qlkSAhXp7e1BXM:&amp;tbnh=114&amp;tbnw=114&amp;prev=/images%3Fq%3Dsarten%26um%3D1%26hl%3Des" TargetMode="External"/><Relationship Id="rId13" Type="http://schemas.openxmlformats.org/officeDocument/2006/relationships/image" Target="../media/image20.jpeg"/><Relationship Id="rId14" Type="http://schemas.openxmlformats.org/officeDocument/2006/relationships/image" Target="../media/image24.gif"/><Relationship Id="rId15" Type="http://schemas.openxmlformats.org/officeDocument/2006/relationships/image" Target="../media/image15.jpeg"/><Relationship Id="rId16" Type="http://schemas.openxmlformats.org/officeDocument/2006/relationships/image" Target="../media/image25.png"/><Relationship Id="rId17" Type="http://schemas.openxmlformats.org/officeDocument/2006/relationships/image" Target="../media/image26.png"/><Relationship Id="rId1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6.jpeg"/><Relationship Id="rId12" Type="http://schemas.openxmlformats.org/officeDocument/2006/relationships/image" Target="../media/image20.jpeg"/><Relationship Id="rId13" Type="http://schemas.openxmlformats.org/officeDocument/2006/relationships/image" Target="../media/image24.gif"/><Relationship Id="rId14" Type="http://schemas.openxmlformats.org/officeDocument/2006/relationships/image" Target="../media/image16.jpeg"/><Relationship Id="rId15" Type="http://schemas.openxmlformats.org/officeDocument/2006/relationships/image" Target="../media/image25.png"/><Relationship Id="rId16" Type="http://schemas.openxmlformats.org/officeDocument/2006/relationships/image" Target="../media/image26.png"/><Relationship Id="rId1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6.jpeg"/><Relationship Id="rId12" Type="http://schemas.openxmlformats.org/officeDocument/2006/relationships/hyperlink" Target="http://images.google.com.ar/imgres?imgurl=http://www.zonalibre.org/blog/moe/archives/imagenes/sarten%255B1%255D.jpg&amp;imgrefurl=http://www.zonalibre.org/blog/moe/archives/2004_07.html&amp;h=280&amp;w=280&amp;sz=12&amp;hl=es&amp;start=4&amp;um=1&amp;tbnid=qlkSAhXp7e1BXM:&amp;tbnh=114&amp;tbnw=114&amp;prev=/images%3Fq%3Dsarten%26um%3D1%26hl%3Des" TargetMode="External"/><Relationship Id="rId13" Type="http://schemas.openxmlformats.org/officeDocument/2006/relationships/image" Target="../media/image20.jpeg"/><Relationship Id="rId14" Type="http://schemas.openxmlformats.org/officeDocument/2006/relationships/image" Target="../media/image24.gif"/><Relationship Id="rId15" Type="http://schemas.openxmlformats.org/officeDocument/2006/relationships/image" Target="../media/image22.png"/><Relationship Id="rId16" Type="http://schemas.openxmlformats.org/officeDocument/2006/relationships/image" Target="../media/image17.jpeg"/><Relationship Id="rId1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6.jpeg"/><Relationship Id="rId12" Type="http://schemas.openxmlformats.org/officeDocument/2006/relationships/image" Target="../media/image20.jpeg"/><Relationship Id="rId13" Type="http://schemas.openxmlformats.org/officeDocument/2006/relationships/image" Target="../media/image24.gif"/><Relationship Id="rId14" Type="http://schemas.openxmlformats.org/officeDocument/2006/relationships/image" Target="../media/image18.jpeg"/><Relationship Id="rId15" Type="http://schemas.openxmlformats.org/officeDocument/2006/relationships/image" Target="../media/image25.png"/><Relationship Id="rId16" Type="http://schemas.openxmlformats.org/officeDocument/2006/relationships/image" Target="../media/image26.png"/><Relationship Id="rId1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6.jpeg"/><Relationship Id="rId13" Type="http://schemas.openxmlformats.org/officeDocument/2006/relationships/hyperlink" Target="http://images.google.com.ar/imgres?imgurl=http://www.zonalibre.org/blog/moe/archives/imagenes/sarten%255B1%255D.jpg&amp;imgrefurl=http://www.zonalibre.org/blog/moe/archives/2004_07.html&amp;h=280&amp;w=280&amp;sz=12&amp;hl=es&amp;start=4&amp;um=1&amp;tbnid=qlkSAhXp7e1BXM:&amp;tbnh=114&amp;tbnw=114&amp;prev=/images%3Fq%3Dsarten%26um%3D1%26hl%3Des" TargetMode="External"/><Relationship Id="rId14" Type="http://schemas.openxmlformats.org/officeDocument/2006/relationships/image" Target="../media/image20.jpeg"/><Relationship Id="rId15" Type="http://schemas.openxmlformats.org/officeDocument/2006/relationships/image" Target="../media/image24.gif"/><Relationship Id="rId16" Type="http://schemas.openxmlformats.org/officeDocument/2006/relationships/image" Target="../media/image19.jpeg"/><Relationship Id="rId17" Type="http://schemas.openxmlformats.org/officeDocument/2006/relationships/image" Target="../media/image22.png"/><Relationship Id="rId18" Type="http://schemas.openxmlformats.org/officeDocument/2006/relationships/image" Target="../media/image25.png"/><Relationship Id="rId19" Type="http://schemas.openxmlformats.org/officeDocument/2006/relationships/image" Target="../media/image26.png"/><Relationship Id="rId2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28.jpeg"/><Relationship Id="rId12" Type="http://schemas.openxmlformats.org/officeDocument/2006/relationships/image" Target="../media/image26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6.jpeg"/><Relationship Id="rId12" Type="http://schemas.openxmlformats.org/officeDocument/2006/relationships/image" Target="../media/image7.jpe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6.jpe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6.jpeg"/><Relationship Id="rId12" Type="http://schemas.openxmlformats.org/officeDocument/2006/relationships/image" Target="../media/image8.jpeg"/><Relationship Id="rId13" Type="http://schemas.openxmlformats.org/officeDocument/2006/relationships/image" Target="../media/image9.wmf"/><Relationship Id="rId14" Type="http://schemas.openxmlformats.org/officeDocument/2006/relationships/image" Target="../media/image10.wmf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6.jpeg"/><Relationship Id="rId12" Type="http://schemas.openxmlformats.org/officeDocument/2006/relationships/hyperlink" Target="http://images.google.com.ar/imgres?imgurl=http://www.zonalibre.org/blog/moe/archives/imagenes/sarten%255B1%255D.jpg&amp;imgrefurl=http://www.zonalibre.org/blog/moe/archives/2004_07.html&amp;h=280&amp;w=280&amp;sz=12&amp;hl=es&amp;start=4&amp;um=1&amp;tbnid=qlkSAhXp7e1BXM:&amp;tbnh=114&amp;tbnw=114&amp;prev=/images%3Fq%3Dsarten%26um%3D1%26hl%3Des" TargetMode="External"/><Relationship Id="rId13" Type="http://schemas.openxmlformats.org/officeDocument/2006/relationships/image" Target="../media/image20.jpeg"/><Relationship Id="rId14" Type="http://schemas.openxmlformats.org/officeDocument/2006/relationships/image" Target="../media/image21.gif"/><Relationship Id="rId15" Type="http://schemas.openxmlformats.org/officeDocument/2006/relationships/image" Target="../media/image11.jpeg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6.jpeg"/><Relationship Id="rId12" Type="http://schemas.openxmlformats.org/officeDocument/2006/relationships/image" Target="../media/image12.jpeg"/><Relationship Id="rId13" Type="http://schemas.openxmlformats.org/officeDocument/2006/relationships/hyperlink" Target="http://images.google.com.ar/imgres?imgurl=http://www.zonalibre.org/blog/moe/archives/imagenes/sarten%255B1%255D.jpg&amp;imgrefurl=http://www.zonalibre.org/blog/moe/archives/2004_07.html&amp;h=280&amp;w=280&amp;sz=12&amp;hl=es&amp;start=4&amp;um=1&amp;tbnid=qlkSAhXp7e1BXM:&amp;tbnh=114&amp;tbnw=114&amp;prev=/images%3Fq%3Dsarten%26um%3D1%26hl%3Des" TargetMode="External"/><Relationship Id="rId14" Type="http://schemas.openxmlformats.org/officeDocument/2006/relationships/image" Target="../media/image20.jpeg"/><Relationship Id="rId15" Type="http://schemas.openxmlformats.org/officeDocument/2006/relationships/image" Target="../media/image22.png"/><Relationship Id="rId16" Type="http://schemas.openxmlformats.org/officeDocument/2006/relationships/image" Target="../media/image23.gif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6.jpeg"/><Relationship Id="rId12" Type="http://schemas.openxmlformats.org/officeDocument/2006/relationships/hyperlink" Target="http://images.google.com.ar/imgres?imgurl=http://www.zonalibre.org/blog/moe/archives/imagenes/sarten%255B1%255D.jpg&amp;imgrefurl=http://www.zonalibre.org/blog/moe/archives/2004_07.html&amp;h=280&amp;w=280&amp;sz=12&amp;hl=es&amp;start=4&amp;um=1&amp;tbnid=qlkSAhXp7e1BXM:&amp;tbnh=114&amp;tbnw=114&amp;prev=/images%3Fq%3Dsarten%26um%3D1%26hl%3Des" TargetMode="External"/><Relationship Id="rId13" Type="http://schemas.openxmlformats.org/officeDocument/2006/relationships/image" Target="../media/image20.jpeg"/><Relationship Id="rId14" Type="http://schemas.openxmlformats.org/officeDocument/2006/relationships/image" Target="../media/image22.png"/><Relationship Id="rId15" Type="http://schemas.openxmlformats.org/officeDocument/2006/relationships/image" Target="../media/image24.gif"/><Relationship Id="rId16" Type="http://schemas.openxmlformats.org/officeDocument/2006/relationships/image" Target="../media/image13.jpeg"/><Relationship Id="rId1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6.jpeg"/><Relationship Id="rId12" Type="http://schemas.openxmlformats.org/officeDocument/2006/relationships/hyperlink" Target="http://images.google.com.ar/imgres?imgurl=http://www.zonalibre.org/blog/moe/archives/imagenes/sarten%255B1%255D.jpg&amp;imgrefurl=http://www.zonalibre.org/blog/moe/archives/2004_07.html&amp;h=280&amp;w=280&amp;sz=12&amp;hl=es&amp;start=4&amp;um=1&amp;tbnid=qlkSAhXp7e1BXM:&amp;tbnh=114&amp;tbnw=114&amp;prev=/images%3Fq%3Dsarten%26um%3D1%26hl%3Des" TargetMode="External"/><Relationship Id="rId13" Type="http://schemas.openxmlformats.org/officeDocument/2006/relationships/image" Target="../media/image20.jpeg"/><Relationship Id="rId14" Type="http://schemas.openxmlformats.org/officeDocument/2006/relationships/image" Target="../media/image22.png"/><Relationship Id="rId15" Type="http://schemas.openxmlformats.org/officeDocument/2006/relationships/image" Target="../media/image24.gif"/><Relationship Id="rId16" Type="http://schemas.openxmlformats.org/officeDocument/2006/relationships/image" Target="../media/image14.jpeg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38200" y="4046400"/>
            <a:ext cx="597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Narrow"/>
              </a:rPr>
              <a:t>Limpieza Profesiona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87560" y="4565520"/>
            <a:ext cx="59720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 Narrow"/>
              </a:rPr>
              <a:t>Fibras y Esponjas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79680" y="195120"/>
            <a:ext cx="4091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Arial Narrow"/>
              </a:rPr>
              <a:t>Building &amp; Commercial Service Division – 3M Argent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912080" y="5987880"/>
            <a:ext cx="874800" cy="490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57360" y="657216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 Narrow"/>
              </a:rPr>
              <a:t>&lt;date/time&gt;</a:t>
            </a:r>
            <a:r>
              <a:rPr b="0" lang="en-US" sz="1000" spc="-1" strike="noStrike">
                <a:solidFill>
                  <a:srgbClr val="808080"/>
                </a:solidFill>
                <a:latin typeface="Arial Narrow"/>
              </a:rPr>
              <a:t>© 3M 2007. 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"/>
          <p:cNvGraphicFramePr/>
          <p:nvPr/>
        </p:nvGraphicFramePr>
        <p:xfrm>
          <a:off x="7524720" y="6553080"/>
          <a:ext cx="1619280" cy="22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720" y="6553080"/>
                    <a:ext cx="161928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4582440" y="44280"/>
            <a:ext cx="452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Building &amp; Commercial Service Di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692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Berlin Sans FB Demi"/>
              </a:rPr>
              <a:t>Fibra Uso Fuert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Berlin Sans FB Demi"/>
              </a:rPr>
              <a:t>AZUL nro 2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71280" y="44280"/>
            <a:ext cx="684360" cy="3603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current tab indicator"/>
          <p:cNvPicPr/>
          <p:nvPr/>
        </p:nvPicPr>
        <p:blipFill>
          <a:blip r:embed="rId4"/>
          <a:stretch/>
        </p:blipFill>
        <p:spPr>
          <a:xfrm>
            <a:off x="870120" y="2849400"/>
            <a:ext cx="190440" cy="1047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current tab indicator"/>
          <p:cNvPicPr/>
          <p:nvPr/>
        </p:nvPicPr>
        <p:blipFill>
          <a:blip r:embed="rId5"/>
          <a:stretch/>
        </p:blipFill>
        <p:spPr>
          <a:xfrm>
            <a:off x="870120" y="2849400"/>
            <a:ext cx="190440" cy="1047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current tab indicator"/>
          <p:cNvPicPr/>
          <p:nvPr/>
        </p:nvPicPr>
        <p:blipFill>
          <a:blip r:embed="rId6"/>
          <a:stretch/>
        </p:blipFill>
        <p:spPr>
          <a:xfrm>
            <a:off x="870120" y="2849400"/>
            <a:ext cx="190440" cy="1047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current tab indicator"/>
          <p:cNvPicPr/>
          <p:nvPr/>
        </p:nvPicPr>
        <p:blipFill>
          <a:blip r:embed="rId7"/>
          <a:stretch/>
        </p:blipFill>
        <p:spPr>
          <a:xfrm>
            <a:off x="870120" y="2849400"/>
            <a:ext cx="190440" cy="1047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current tab indicator"/>
          <p:cNvPicPr/>
          <p:nvPr/>
        </p:nvPicPr>
        <p:blipFill>
          <a:blip r:embed="rId8"/>
          <a:stretch/>
        </p:blipFill>
        <p:spPr>
          <a:xfrm>
            <a:off x="870120" y="2849400"/>
            <a:ext cx="190440" cy="1047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current tab indicator"/>
          <p:cNvPicPr/>
          <p:nvPr/>
        </p:nvPicPr>
        <p:blipFill>
          <a:blip r:embed="rId9"/>
          <a:stretch/>
        </p:blipFill>
        <p:spPr>
          <a:xfrm>
            <a:off x="870120" y="2849400"/>
            <a:ext cx="190440" cy="1047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current tab indicator"/>
          <p:cNvPicPr/>
          <p:nvPr/>
        </p:nvPicPr>
        <p:blipFill>
          <a:blip r:embed="rId10"/>
          <a:stretch/>
        </p:blipFill>
        <p:spPr>
          <a:xfrm>
            <a:off x="870120" y="2849400"/>
            <a:ext cx="190440" cy="1047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11"/>
          <a:stretch/>
        </p:blipFill>
        <p:spPr>
          <a:xfrm>
            <a:off x="5451480" y="5445000"/>
            <a:ext cx="3657600" cy="11430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179280" y="1916280"/>
            <a:ext cx="482436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3000"/>
          </a:bodyPr>
          <a:p>
            <a:pPr marL="79200" indent="-792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9200" indent="-792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Símil al uso de la virul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9200" indent="-792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9200" indent="-792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Se puede usar seca o húme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9200" indent="-792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9200" indent="-792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Ideal para INOXID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9200" indent="-792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9200" indent="-792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No ra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9200" indent="-792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9200" indent="-79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478880" y="5078520"/>
            <a:ext cx="23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u="sng">
                <a:solidFill>
                  <a:srgbClr val="000000"/>
                </a:solidFill>
                <a:uFillTx/>
                <a:latin typeface="Arial"/>
              </a:rPr>
              <a:t>CARACTERIS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324000" y="5516640"/>
            <a:ext cx="1085760" cy="1085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14"/>
          <a:stretch/>
        </p:blipFill>
        <p:spPr>
          <a:xfrm>
            <a:off x="1476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15"/>
          <a:stretch/>
        </p:blipFill>
        <p:spPr>
          <a:xfrm>
            <a:off x="4865760" y="2205000"/>
            <a:ext cx="4027320" cy="27050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16"/>
          <a:stretch/>
        </p:blipFill>
        <p:spPr>
          <a:xfrm>
            <a:off x="6588000" y="836640"/>
            <a:ext cx="1071720" cy="1071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17"/>
          <a:stretch/>
        </p:blipFill>
        <p:spPr>
          <a:xfrm>
            <a:off x="7885080" y="620640"/>
            <a:ext cx="1057320" cy="1452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"/>
          <p:cNvGraphicFramePr/>
          <p:nvPr/>
        </p:nvGraphicFramePr>
        <p:xfrm>
          <a:off x="7524720" y="6553080"/>
          <a:ext cx="1619280" cy="22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720" y="6553080"/>
                    <a:ext cx="161928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4582440" y="44280"/>
            <a:ext cx="452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Building &amp; Commercial Service Di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692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Berlin Sans FB Demi"/>
              </a:rPr>
              <a:t>Fibra Uso Fuert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Berlin Sans FB Demi"/>
              </a:rPr>
              <a:t>PURPURA nro 20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71280" y="44280"/>
            <a:ext cx="684360" cy="36036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current tab indicator"/>
          <p:cNvPicPr/>
          <p:nvPr/>
        </p:nvPicPr>
        <p:blipFill>
          <a:blip r:embed="rId4"/>
          <a:stretch/>
        </p:blipFill>
        <p:spPr>
          <a:xfrm>
            <a:off x="870120" y="2849400"/>
            <a:ext cx="190440" cy="1047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current tab indicator"/>
          <p:cNvPicPr/>
          <p:nvPr/>
        </p:nvPicPr>
        <p:blipFill>
          <a:blip r:embed="rId5"/>
          <a:stretch/>
        </p:blipFill>
        <p:spPr>
          <a:xfrm>
            <a:off x="870120" y="2849400"/>
            <a:ext cx="190440" cy="1047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current tab indicator"/>
          <p:cNvPicPr/>
          <p:nvPr/>
        </p:nvPicPr>
        <p:blipFill>
          <a:blip r:embed="rId6"/>
          <a:stretch/>
        </p:blipFill>
        <p:spPr>
          <a:xfrm>
            <a:off x="870120" y="2849400"/>
            <a:ext cx="190440" cy="10476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current tab indicator"/>
          <p:cNvPicPr/>
          <p:nvPr/>
        </p:nvPicPr>
        <p:blipFill>
          <a:blip r:embed="rId7"/>
          <a:stretch/>
        </p:blipFill>
        <p:spPr>
          <a:xfrm>
            <a:off x="870120" y="2849400"/>
            <a:ext cx="190440" cy="1047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current tab indicator"/>
          <p:cNvPicPr/>
          <p:nvPr/>
        </p:nvPicPr>
        <p:blipFill>
          <a:blip r:embed="rId8"/>
          <a:stretch/>
        </p:blipFill>
        <p:spPr>
          <a:xfrm>
            <a:off x="870120" y="2849400"/>
            <a:ext cx="190440" cy="1047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current tab indicator"/>
          <p:cNvPicPr/>
          <p:nvPr/>
        </p:nvPicPr>
        <p:blipFill>
          <a:blip r:embed="rId9"/>
          <a:stretch/>
        </p:blipFill>
        <p:spPr>
          <a:xfrm>
            <a:off x="870120" y="2849400"/>
            <a:ext cx="190440" cy="104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current tab indicator"/>
          <p:cNvPicPr/>
          <p:nvPr/>
        </p:nvPicPr>
        <p:blipFill>
          <a:blip r:embed="rId10"/>
          <a:stretch/>
        </p:blipFill>
        <p:spPr>
          <a:xfrm>
            <a:off x="870120" y="2849400"/>
            <a:ext cx="190440" cy="1047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11"/>
          <a:stretch/>
        </p:blipFill>
        <p:spPr>
          <a:xfrm>
            <a:off x="5451480" y="5445000"/>
            <a:ext cx="3657600" cy="11430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79280" y="1916280"/>
            <a:ext cx="482436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3000"/>
          </a:bodyPr>
          <a:p>
            <a:pPr marL="79200" indent="-792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9200" indent="-792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Símil al uso de la viru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9200" indent="-792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9200" indent="-792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Raya en baja propor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9200" indent="-792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9200" indent="-792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Muy fácil de limpi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9200" indent="-792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9200" indent="-792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Reduce el tiempo de trabajo a la mit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9200" indent="-792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9200" indent="-79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8880" y="5078520"/>
            <a:ext cx="23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u="sng">
                <a:solidFill>
                  <a:srgbClr val="000000"/>
                </a:solidFill>
                <a:uFillTx/>
                <a:latin typeface="Arial"/>
              </a:rPr>
              <a:t>CARACTERIS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2"/>
          <a:stretch/>
        </p:blipFill>
        <p:spPr>
          <a:xfrm>
            <a:off x="324000" y="5516640"/>
            <a:ext cx="1085760" cy="10857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13"/>
          <a:stretch/>
        </p:blipFill>
        <p:spPr>
          <a:xfrm>
            <a:off x="1476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14"/>
          <a:stretch/>
        </p:blipFill>
        <p:spPr>
          <a:xfrm>
            <a:off x="4921200" y="2205000"/>
            <a:ext cx="3971880" cy="2736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15"/>
          <a:stretch/>
        </p:blipFill>
        <p:spPr>
          <a:xfrm>
            <a:off x="6588000" y="836640"/>
            <a:ext cx="1071720" cy="10713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16"/>
          <a:stretch/>
        </p:blipFill>
        <p:spPr>
          <a:xfrm>
            <a:off x="7885080" y="620640"/>
            <a:ext cx="1057320" cy="1452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8" name=""/>
          <p:cNvGraphicFramePr/>
          <p:nvPr/>
        </p:nvGraphicFramePr>
        <p:xfrm>
          <a:off x="7524720" y="6553080"/>
          <a:ext cx="1619280" cy="22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720" y="6553080"/>
                    <a:ext cx="161928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4582440" y="44280"/>
            <a:ext cx="452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Building &amp; Commercial Service Di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692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Berlin Sans FB Demi"/>
              </a:rPr>
              <a:t>Fibra - Esponj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Berlin Sans FB Demi"/>
              </a:rPr>
              <a:t>Verde nro 7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71280" y="44280"/>
            <a:ext cx="684360" cy="3603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current tab indicator"/>
          <p:cNvPicPr/>
          <p:nvPr/>
        </p:nvPicPr>
        <p:blipFill>
          <a:blip r:embed="rId4"/>
          <a:stretch/>
        </p:blipFill>
        <p:spPr>
          <a:xfrm>
            <a:off x="870120" y="2849400"/>
            <a:ext cx="190440" cy="1047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current tab indicator"/>
          <p:cNvPicPr/>
          <p:nvPr/>
        </p:nvPicPr>
        <p:blipFill>
          <a:blip r:embed="rId5"/>
          <a:stretch/>
        </p:blipFill>
        <p:spPr>
          <a:xfrm>
            <a:off x="870120" y="2849400"/>
            <a:ext cx="190440" cy="1047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current tab indicator"/>
          <p:cNvPicPr/>
          <p:nvPr/>
        </p:nvPicPr>
        <p:blipFill>
          <a:blip r:embed="rId6"/>
          <a:stretch/>
        </p:blipFill>
        <p:spPr>
          <a:xfrm>
            <a:off x="870120" y="2849400"/>
            <a:ext cx="190440" cy="10476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current tab indicator"/>
          <p:cNvPicPr/>
          <p:nvPr/>
        </p:nvPicPr>
        <p:blipFill>
          <a:blip r:embed="rId7"/>
          <a:stretch/>
        </p:blipFill>
        <p:spPr>
          <a:xfrm>
            <a:off x="870120" y="2849400"/>
            <a:ext cx="190440" cy="104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current tab indicator"/>
          <p:cNvPicPr/>
          <p:nvPr/>
        </p:nvPicPr>
        <p:blipFill>
          <a:blip r:embed="rId8"/>
          <a:stretch/>
        </p:blipFill>
        <p:spPr>
          <a:xfrm>
            <a:off x="870120" y="2849400"/>
            <a:ext cx="190440" cy="1047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current tab indicator"/>
          <p:cNvPicPr/>
          <p:nvPr/>
        </p:nvPicPr>
        <p:blipFill>
          <a:blip r:embed="rId9"/>
          <a:stretch/>
        </p:blipFill>
        <p:spPr>
          <a:xfrm>
            <a:off x="870120" y="2849400"/>
            <a:ext cx="190440" cy="1047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current tab indicator"/>
          <p:cNvPicPr/>
          <p:nvPr/>
        </p:nvPicPr>
        <p:blipFill>
          <a:blip r:embed="rId10"/>
          <a:stretch/>
        </p:blipFill>
        <p:spPr>
          <a:xfrm>
            <a:off x="870120" y="2849400"/>
            <a:ext cx="190440" cy="10476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11"/>
          <a:stretch/>
        </p:blipFill>
        <p:spPr>
          <a:xfrm>
            <a:off x="5451480" y="5445000"/>
            <a:ext cx="3657600" cy="11430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79280" y="2492280"/>
            <a:ext cx="4824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6000"/>
          </a:bodyPr>
          <a:p>
            <a:pPr marL="158400" indent="-1584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400" indent="-1584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Esponja amari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400" indent="-1584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400" indent="-1584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Fibra ver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400" indent="-1584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400" indent="-1584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400" indent="-1584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400" indent="-1584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400" indent="-1584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400" indent="-158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478880" y="5078520"/>
            <a:ext cx="23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u="sng">
                <a:solidFill>
                  <a:srgbClr val="000000"/>
                </a:solidFill>
                <a:uFillTx/>
                <a:latin typeface="Arial"/>
              </a:rPr>
              <a:t>CARACTERIS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324000" y="5516640"/>
            <a:ext cx="1085760" cy="108576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14"/>
          <a:stretch/>
        </p:blipFill>
        <p:spPr>
          <a:xfrm>
            <a:off x="1476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15">
            <a:lum bright="-2000"/>
          </a:blip>
          <a:stretch/>
        </p:blipFill>
        <p:spPr>
          <a:xfrm>
            <a:off x="395280" y="5878440"/>
            <a:ext cx="719280" cy="71928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16"/>
          <a:stretch/>
        </p:blipFill>
        <p:spPr>
          <a:xfrm>
            <a:off x="4865760" y="2205000"/>
            <a:ext cx="4027320" cy="2736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7" name=""/>
          <p:cNvGraphicFramePr/>
          <p:nvPr/>
        </p:nvGraphicFramePr>
        <p:xfrm>
          <a:off x="7524720" y="6553080"/>
          <a:ext cx="1619280" cy="22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720" y="6553080"/>
                    <a:ext cx="161928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"/>
          <p:cNvSpPr/>
          <p:nvPr/>
        </p:nvSpPr>
        <p:spPr>
          <a:xfrm>
            <a:off x="4582440" y="44280"/>
            <a:ext cx="452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Building &amp; Commercial Service Di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692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Berlin Sans FB Demi"/>
              </a:rPr>
              <a:t>Fibra – Esponja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Berlin Sans FB Demi"/>
              </a:rPr>
              <a:t>Cero Ray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71280" y="44280"/>
            <a:ext cx="684360" cy="360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current tab indicator"/>
          <p:cNvPicPr/>
          <p:nvPr/>
        </p:nvPicPr>
        <p:blipFill>
          <a:blip r:embed="rId4"/>
          <a:stretch/>
        </p:blipFill>
        <p:spPr>
          <a:xfrm>
            <a:off x="870120" y="2849400"/>
            <a:ext cx="190440" cy="10476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current tab indicator"/>
          <p:cNvPicPr/>
          <p:nvPr/>
        </p:nvPicPr>
        <p:blipFill>
          <a:blip r:embed="rId5"/>
          <a:stretch/>
        </p:blipFill>
        <p:spPr>
          <a:xfrm>
            <a:off x="870120" y="2849400"/>
            <a:ext cx="190440" cy="1047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current tab indicator"/>
          <p:cNvPicPr/>
          <p:nvPr/>
        </p:nvPicPr>
        <p:blipFill>
          <a:blip r:embed="rId6"/>
          <a:stretch/>
        </p:blipFill>
        <p:spPr>
          <a:xfrm>
            <a:off x="870120" y="2849400"/>
            <a:ext cx="190440" cy="1047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current tab indicator"/>
          <p:cNvPicPr/>
          <p:nvPr/>
        </p:nvPicPr>
        <p:blipFill>
          <a:blip r:embed="rId7"/>
          <a:stretch/>
        </p:blipFill>
        <p:spPr>
          <a:xfrm>
            <a:off x="870120" y="2849400"/>
            <a:ext cx="190440" cy="10476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current tab indicator"/>
          <p:cNvPicPr/>
          <p:nvPr/>
        </p:nvPicPr>
        <p:blipFill>
          <a:blip r:embed="rId8"/>
          <a:stretch/>
        </p:blipFill>
        <p:spPr>
          <a:xfrm>
            <a:off x="870120" y="2849400"/>
            <a:ext cx="190440" cy="1047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current tab indicator"/>
          <p:cNvPicPr/>
          <p:nvPr/>
        </p:nvPicPr>
        <p:blipFill>
          <a:blip r:embed="rId9"/>
          <a:stretch/>
        </p:blipFill>
        <p:spPr>
          <a:xfrm>
            <a:off x="870120" y="2849400"/>
            <a:ext cx="190440" cy="10476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current tab indicator"/>
          <p:cNvPicPr/>
          <p:nvPr/>
        </p:nvPicPr>
        <p:blipFill>
          <a:blip r:embed="rId10"/>
          <a:stretch/>
        </p:blipFill>
        <p:spPr>
          <a:xfrm>
            <a:off x="870120" y="2849400"/>
            <a:ext cx="190440" cy="10476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11"/>
          <a:stretch/>
        </p:blipFill>
        <p:spPr>
          <a:xfrm>
            <a:off x="5451480" y="5445000"/>
            <a:ext cx="3657600" cy="114300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179280" y="2492280"/>
            <a:ext cx="4824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6000"/>
          </a:bodyPr>
          <a:p>
            <a:pPr marL="158400" indent="-1584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400" indent="-1584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Esponja de Alta vida Ut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400" indent="-1584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400" indent="-1584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Fibra Azul Cero Ray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400" indent="-1584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400" indent="-1584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400" indent="-1584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400" indent="-1584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400" indent="-1584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400" indent="-158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478880" y="5078520"/>
            <a:ext cx="23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u="sng">
                <a:solidFill>
                  <a:srgbClr val="000000"/>
                </a:solidFill>
                <a:uFillTx/>
                <a:latin typeface="Arial"/>
              </a:rPr>
              <a:t>CARACTERIS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2"/>
          <a:stretch/>
        </p:blipFill>
        <p:spPr>
          <a:xfrm>
            <a:off x="324000" y="5516640"/>
            <a:ext cx="1085760" cy="10857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13"/>
          <a:stretch/>
        </p:blipFill>
        <p:spPr>
          <a:xfrm>
            <a:off x="1476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14"/>
          <a:stretch/>
        </p:blipFill>
        <p:spPr>
          <a:xfrm>
            <a:off x="4859280" y="2220840"/>
            <a:ext cx="3995640" cy="279252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15"/>
          <a:stretch/>
        </p:blipFill>
        <p:spPr>
          <a:xfrm>
            <a:off x="6588000" y="836640"/>
            <a:ext cx="1071720" cy="107136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16"/>
          <a:stretch/>
        </p:blipFill>
        <p:spPr>
          <a:xfrm>
            <a:off x="7885080" y="620640"/>
            <a:ext cx="1057320" cy="1452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2556000" y="5661000"/>
            <a:ext cx="1008000" cy="928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8" name=""/>
          <p:cNvGraphicFramePr/>
          <p:nvPr/>
        </p:nvGraphicFramePr>
        <p:xfrm>
          <a:off x="7524720" y="6553080"/>
          <a:ext cx="1619280" cy="228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24720" y="6553080"/>
                    <a:ext cx="161928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"/>
          <p:cNvSpPr/>
          <p:nvPr/>
        </p:nvSpPr>
        <p:spPr>
          <a:xfrm>
            <a:off x="4582440" y="44280"/>
            <a:ext cx="452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Building &amp; Commercial Service Di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692280"/>
            <a:ext cx="76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Berlin Sans FB Demi"/>
              </a:rPr>
              <a:t>Fibra - Esponj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Berlin Sans FB Demi"/>
              </a:rPr>
              <a:t>Antibacteriana nro 30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4"/>
          <a:stretch/>
        </p:blipFill>
        <p:spPr>
          <a:xfrm>
            <a:off x="71280" y="44280"/>
            <a:ext cx="684360" cy="36036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current tab indicator"/>
          <p:cNvPicPr/>
          <p:nvPr/>
        </p:nvPicPr>
        <p:blipFill>
          <a:blip r:embed="rId5"/>
          <a:stretch/>
        </p:blipFill>
        <p:spPr>
          <a:xfrm>
            <a:off x="870120" y="2849400"/>
            <a:ext cx="190440" cy="10476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current tab indicator"/>
          <p:cNvPicPr/>
          <p:nvPr/>
        </p:nvPicPr>
        <p:blipFill>
          <a:blip r:embed="rId6"/>
          <a:stretch/>
        </p:blipFill>
        <p:spPr>
          <a:xfrm>
            <a:off x="870120" y="2849400"/>
            <a:ext cx="190440" cy="10476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current tab indicator"/>
          <p:cNvPicPr/>
          <p:nvPr/>
        </p:nvPicPr>
        <p:blipFill>
          <a:blip r:embed="rId7"/>
          <a:stretch/>
        </p:blipFill>
        <p:spPr>
          <a:xfrm>
            <a:off x="870120" y="2849400"/>
            <a:ext cx="190440" cy="10476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current tab indicator"/>
          <p:cNvPicPr/>
          <p:nvPr/>
        </p:nvPicPr>
        <p:blipFill>
          <a:blip r:embed="rId8"/>
          <a:stretch/>
        </p:blipFill>
        <p:spPr>
          <a:xfrm>
            <a:off x="870120" y="2849400"/>
            <a:ext cx="190440" cy="10476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current tab indicator"/>
          <p:cNvPicPr/>
          <p:nvPr/>
        </p:nvPicPr>
        <p:blipFill>
          <a:blip r:embed="rId9"/>
          <a:stretch/>
        </p:blipFill>
        <p:spPr>
          <a:xfrm>
            <a:off x="870120" y="2849400"/>
            <a:ext cx="190440" cy="10476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current tab indicator"/>
          <p:cNvPicPr/>
          <p:nvPr/>
        </p:nvPicPr>
        <p:blipFill>
          <a:blip r:embed="rId10"/>
          <a:stretch/>
        </p:blipFill>
        <p:spPr>
          <a:xfrm>
            <a:off x="870120" y="2849400"/>
            <a:ext cx="190440" cy="10476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current tab indicator"/>
          <p:cNvPicPr/>
          <p:nvPr/>
        </p:nvPicPr>
        <p:blipFill>
          <a:blip r:embed="rId11"/>
          <a:stretch/>
        </p:blipFill>
        <p:spPr>
          <a:xfrm>
            <a:off x="870120" y="2849400"/>
            <a:ext cx="190440" cy="10476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12"/>
          <a:stretch/>
        </p:blipFill>
        <p:spPr>
          <a:xfrm>
            <a:off x="5451480" y="5445000"/>
            <a:ext cx="3657600" cy="114300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79280" y="1916280"/>
            <a:ext cx="482436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3000"/>
          </a:bodyPr>
          <a:p>
            <a:pPr marL="79200" indent="-792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9200" indent="-792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Inhibe el desarrollo bacteri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9200" indent="-792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9200" indent="-792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No ra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9200" indent="-792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9200" indent="-792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Limpia 4 veces más ráp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9200" indent="-792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9200" indent="-792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Absorbe hasta 15 veces su pe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9200" indent="-792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9200" indent="-792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9200" indent="-792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9200" indent="-792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9200" indent="-792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9200" indent="-79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478880" y="5078520"/>
            <a:ext cx="23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u="sng">
                <a:solidFill>
                  <a:srgbClr val="000000"/>
                </a:solidFill>
                <a:uFillTx/>
                <a:latin typeface="Arial"/>
              </a:rPr>
              <a:t>CARACTERIS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324000" y="5516640"/>
            <a:ext cx="1085760" cy="108576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15"/>
          <a:stretch/>
        </p:blipFill>
        <p:spPr>
          <a:xfrm>
            <a:off x="1476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16"/>
          <a:stretch/>
        </p:blipFill>
        <p:spPr>
          <a:xfrm>
            <a:off x="4859280" y="2205000"/>
            <a:ext cx="4027680" cy="273672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17">
            <a:lum bright="-2000"/>
          </a:blip>
          <a:stretch/>
        </p:blipFill>
        <p:spPr>
          <a:xfrm>
            <a:off x="2700360" y="5805360"/>
            <a:ext cx="719280" cy="71928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18"/>
          <a:stretch/>
        </p:blipFill>
        <p:spPr>
          <a:xfrm>
            <a:off x="6595920" y="836640"/>
            <a:ext cx="1071720" cy="107136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19"/>
          <a:stretch/>
        </p:blipFill>
        <p:spPr>
          <a:xfrm>
            <a:off x="7885080" y="620640"/>
            <a:ext cx="1057320" cy="1452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9" name=""/>
          <p:cNvGraphicFramePr/>
          <p:nvPr/>
        </p:nvGraphicFramePr>
        <p:xfrm>
          <a:off x="7524720" y="6553080"/>
          <a:ext cx="1619280" cy="22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720" y="6553080"/>
                    <a:ext cx="161928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"/>
          <p:cNvSpPr/>
          <p:nvPr/>
        </p:nvSpPr>
        <p:spPr>
          <a:xfrm>
            <a:off x="4582440" y="44280"/>
            <a:ext cx="452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Building &amp; Commercial Service Di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549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Berlin Sans FB Demi"/>
              </a:rPr>
              <a:t>Accesor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3"/>
          <a:stretch/>
        </p:blipFill>
        <p:spPr>
          <a:xfrm>
            <a:off x="71280" y="44280"/>
            <a:ext cx="684360" cy="3603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current tab indicator"/>
          <p:cNvPicPr/>
          <p:nvPr/>
        </p:nvPicPr>
        <p:blipFill>
          <a:blip r:embed="rId4"/>
          <a:stretch/>
        </p:blipFill>
        <p:spPr>
          <a:xfrm>
            <a:off x="870120" y="2849400"/>
            <a:ext cx="190440" cy="10476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current tab indicator"/>
          <p:cNvPicPr/>
          <p:nvPr/>
        </p:nvPicPr>
        <p:blipFill>
          <a:blip r:embed="rId5"/>
          <a:stretch/>
        </p:blipFill>
        <p:spPr>
          <a:xfrm>
            <a:off x="870120" y="2849400"/>
            <a:ext cx="190440" cy="10476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current tab indicator"/>
          <p:cNvPicPr/>
          <p:nvPr/>
        </p:nvPicPr>
        <p:blipFill>
          <a:blip r:embed="rId6"/>
          <a:stretch/>
        </p:blipFill>
        <p:spPr>
          <a:xfrm>
            <a:off x="870120" y="2849400"/>
            <a:ext cx="190440" cy="10476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current tab indicator"/>
          <p:cNvPicPr/>
          <p:nvPr/>
        </p:nvPicPr>
        <p:blipFill>
          <a:blip r:embed="rId7"/>
          <a:stretch/>
        </p:blipFill>
        <p:spPr>
          <a:xfrm>
            <a:off x="870120" y="2849400"/>
            <a:ext cx="190440" cy="1047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current tab indicator"/>
          <p:cNvPicPr/>
          <p:nvPr/>
        </p:nvPicPr>
        <p:blipFill>
          <a:blip r:embed="rId8"/>
          <a:stretch/>
        </p:blipFill>
        <p:spPr>
          <a:xfrm>
            <a:off x="870120" y="2849400"/>
            <a:ext cx="190440" cy="1047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current tab indicator"/>
          <p:cNvPicPr/>
          <p:nvPr/>
        </p:nvPicPr>
        <p:blipFill>
          <a:blip r:embed="rId9"/>
          <a:stretch/>
        </p:blipFill>
        <p:spPr>
          <a:xfrm>
            <a:off x="870120" y="2849400"/>
            <a:ext cx="190440" cy="10476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current tab indicator"/>
          <p:cNvPicPr/>
          <p:nvPr/>
        </p:nvPicPr>
        <p:blipFill>
          <a:blip r:embed="rId10"/>
          <a:stretch/>
        </p:blipFill>
        <p:spPr>
          <a:xfrm>
            <a:off x="870120" y="2849400"/>
            <a:ext cx="190440" cy="1047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179280" y="1484280"/>
            <a:ext cx="6337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5000"/>
          </a:bodyPr>
          <a:p>
            <a:pPr marL="91080" indent="-91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STEEL CLEA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080" indent="-91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080" indent="-91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Limpia y Pule en un solo pa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080" indent="-91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No deja película gr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080" indent="-91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Especial para Inoxidable, aluminio y plást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080" indent="-91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No más huellas dactil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080" indent="-91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APROBADO BAJO NORMAS NF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080" indent="-91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080" indent="-91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080" indent="-91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080" indent="-91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080" indent="-91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080" indent="-91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1"/>
          <a:stretch/>
        </p:blipFill>
        <p:spPr>
          <a:xfrm>
            <a:off x="250920" y="4292640"/>
            <a:ext cx="2512800" cy="19731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3130560" y="4290840"/>
            <a:ext cx="6013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1000"/>
          </a:bodyPr>
          <a:p>
            <a:pPr marL="127800" indent="-127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Pad Holder 9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7800" indent="-127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7800" indent="-1278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Diseñado para el uso de todas las fib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7800" indent="-1278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Agarre a través de sus d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7800" indent="-1278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Permite mejor superficie de conta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7800" indent="-127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7800" indent="-127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7800" indent="-127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7800" indent="-127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7800" indent="-127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7800" indent="-127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2"/>
          <a:stretch/>
        </p:blipFill>
        <p:spPr>
          <a:xfrm>
            <a:off x="6300720" y="1125360"/>
            <a:ext cx="2419560" cy="33242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7524720" y="6553080"/>
          <a:ext cx="1619280" cy="22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720" y="6553080"/>
                    <a:ext cx="161928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4582440" y="44280"/>
            <a:ext cx="452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Building &amp; Commercial Service Di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692280"/>
            <a:ext cx="42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Berlin Sans FB Demi"/>
              </a:rPr>
              <a:t>Datos Importa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71280" y="44280"/>
            <a:ext cx="684360" cy="360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current tab indicator"/>
          <p:cNvPicPr/>
          <p:nvPr/>
        </p:nvPicPr>
        <p:blipFill>
          <a:blip r:embed="rId4"/>
          <a:stretch/>
        </p:blipFill>
        <p:spPr>
          <a:xfrm>
            <a:off x="870120" y="2849400"/>
            <a:ext cx="190440" cy="104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current tab indicator"/>
          <p:cNvPicPr/>
          <p:nvPr/>
        </p:nvPicPr>
        <p:blipFill>
          <a:blip r:embed="rId5"/>
          <a:stretch/>
        </p:blipFill>
        <p:spPr>
          <a:xfrm>
            <a:off x="870120" y="2849400"/>
            <a:ext cx="190440" cy="1047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current tab indicator"/>
          <p:cNvPicPr/>
          <p:nvPr/>
        </p:nvPicPr>
        <p:blipFill>
          <a:blip r:embed="rId6"/>
          <a:stretch/>
        </p:blipFill>
        <p:spPr>
          <a:xfrm>
            <a:off x="870120" y="2849400"/>
            <a:ext cx="190440" cy="1047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current tab indicator"/>
          <p:cNvPicPr/>
          <p:nvPr/>
        </p:nvPicPr>
        <p:blipFill>
          <a:blip r:embed="rId7"/>
          <a:stretch/>
        </p:blipFill>
        <p:spPr>
          <a:xfrm>
            <a:off x="870120" y="2849400"/>
            <a:ext cx="190440" cy="104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current tab indicator"/>
          <p:cNvPicPr/>
          <p:nvPr/>
        </p:nvPicPr>
        <p:blipFill>
          <a:blip r:embed="rId8"/>
          <a:stretch/>
        </p:blipFill>
        <p:spPr>
          <a:xfrm>
            <a:off x="870120" y="2849400"/>
            <a:ext cx="190440" cy="1047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current tab indicator"/>
          <p:cNvPicPr/>
          <p:nvPr/>
        </p:nvPicPr>
        <p:blipFill>
          <a:blip r:embed="rId9"/>
          <a:stretch/>
        </p:blipFill>
        <p:spPr>
          <a:xfrm>
            <a:off x="870120" y="2849400"/>
            <a:ext cx="190440" cy="1047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current tab indicator"/>
          <p:cNvPicPr/>
          <p:nvPr/>
        </p:nvPicPr>
        <p:blipFill>
          <a:blip r:embed="rId10"/>
          <a:stretch/>
        </p:blipFill>
        <p:spPr>
          <a:xfrm>
            <a:off x="870120" y="2849400"/>
            <a:ext cx="190440" cy="1047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788000" y="1628640"/>
            <a:ext cx="4176720" cy="19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 marL="205560" indent="-2055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FIBR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Resistente a Productos Quím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Provee mayor dure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Máxima durabi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MINER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En el 100% del produc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Provee el mejor método de freg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RESINA: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Une FIBRA y MINERAL logrando mayor durabi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1"/>
          <a:stretch/>
        </p:blipFill>
        <p:spPr>
          <a:xfrm>
            <a:off x="5451480" y="5445000"/>
            <a:ext cx="3657600" cy="1143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2"/>
          <a:stretch/>
        </p:blipFill>
        <p:spPr>
          <a:xfrm>
            <a:off x="468360" y="1771560"/>
            <a:ext cx="3809880" cy="32418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500720" y="1557360"/>
            <a:ext cx="431640" cy="3456000"/>
          </a:xfrm>
          <a:custGeom>
            <a:avLst/>
            <a:gdLst>
              <a:gd name="textAreaLeft" fmla="*/ 126720 w 431640"/>
              <a:gd name="textAreaRight" fmla="*/ 432000 w 431640"/>
              <a:gd name="textAreaTop" fmla="*/ 144000 h 3456000"/>
              <a:gd name="textAreaBottom" fmla="*/ 3312000 h 34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7524720" y="6553080"/>
          <a:ext cx="1619280" cy="22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720" y="6553080"/>
                    <a:ext cx="161928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4582440" y="44280"/>
            <a:ext cx="452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Building &amp; Commercial Service Di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340000" y="692280"/>
            <a:ext cx="42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Berlin Sans FB Demi"/>
              </a:rPr>
              <a:t>Datos Importa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71280" y="44280"/>
            <a:ext cx="684360" cy="360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current tab indicator"/>
          <p:cNvPicPr/>
          <p:nvPr/>
        </p:nvPicPr>
        <p:blipFill>
          <a:blip r:embed="rId4"/>
          <a:stretch/>
        </p:blipFill>
        <p:spPr>
          <a:xfrm>
            <a:off x="870120" y="2849400"/>
            <a:ext cx="190440" cy="10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current tab indicator"/>
          <p:cNvPicPr/>
          <p:nvPr/>
        </p:nvPicPr>
        <p:blipFill>
          <a:blip r:embed="rId5"/>
          <a:stretch/>
        </p:blipFill>
        <p:spPr>
          <a:xfrm>
            <a:off x="870120" y="2849400"/>
            <a:ext cx="190440" cy="1047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current tab indicator"/>
          <p:cNvPicPr/>
          <p:nvPr/>
        </p:nvPicPr>
        <p:blipFill>
          <a:blip r:embed="rId6"/>
          <a:stretch/>
        </p:blipFill>
        <p:spPr>
          <a:xfrm>
            <a:off x="870120" y="2849400"/>
            <a:ext cx="190440" cy="1047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current tab indicator"/>
          <p:cNvPicPr/>
          <p:nvPr/>
        </p:nvPicPr>
        <p:blipFill>
          <a:blip r:embed="rId7"/>
          <a:stretch/>
        </p:blipFill>
        <p:spPr>
          <a:xfrm>
            <a:off x="870120" y="2849400"/>
            <a:ext cx="190440" cy="1047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current tab indicator"/>
          <p:cNvPicPr/>
          <p:nvPr/>
        </p:nvPicPr>
        <p:blipFill>
          <a:blip r:embed="rId8"/>
          <a:stretch/>
        </p:blipFill>
        <p:spPr>
          <a:xfrm>
            <a:off x="870120" y="2849400"/>
            <a:ext cx="190440" cy="1047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current tab indicator"/>
          <p:cNvPicPr/>
          <p:nvPr/>
        </p:nvPicPr>
        <p:blipFill>
          <a:blip r:embed="rId9"/>
          <a:stretch/>
        </p:blipFill>
        <p:spPr>
          <a:xfrm>
            <a:off x="870120" y="2849400"/>
            <a:ext cx="190440" cy="1047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current tab indicator"/>
          <p:cNvPicPr/>
          <p:nvPr/>
        </p:nvPicPr>
        <p:blipFill>
          <a:blip r:embed="rId10"/>
          <a:stretch/>
        </p:blipFill>
        <p:spPr>
          <a:xfrm>
            <a:off x="870120" y="2849400"/>
            <a:ext cx="190440" cy="1047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79280" y="1762200"/>
            <a:ext cx="8425080" cy="19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 marL="174960" indent="-1749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Ingresa en el mercado en 19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Provee el mayor costo beneficio del mercado como herramienta de limpie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No se oxi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No pierde residuos como las virulas y virula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Reduce la necesidad de utilizar productos químicos fuer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Existe un modelo para cada neces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1"/>
          <a:stretch/>
        </p:blipFill>
        <p:spPr>
          <a:xfrm>
            <a:off x="5451480" y="5445000"/>
            <a:ext cx="3657600" cy="1143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7524720" y="6553080"/>
          <a:ext cx="1619280" cy="22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720" y="6553080"/>
                    <a:ext cx="161928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4582440" y="44280"/>
            <a:ext cx="452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Building &amp; Commercial Service Di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844720" y="692280"/>
            <a:ext cx="42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Berlin Sans FB Demi"/>
              </a:rPr>
              <a:t>BENEFIC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71280" y="44280"/>
            <a:ext cx="684360" cy="360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current tab indicator"/>
          <p:cNvPicPr/>
          <p:nvPr/>
        </p:nvPicPr>
        <p:blipFill>
          <a:blip r:embed="rId4"/>
          <a:stretch/>
        </p:blipFill>
        <p:spPr>
          <a:xfrm>
            <a:off x="870120" y="2849400"/>
            <a:ext cx="190440" cy="1047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current tab indicator"/>
          <p:cNvPicPr/>
          <p:nvPr/>
        </p:nvPicPr>
        <p:blipFill>
          <a:blip r:embed="rId5"/>
          <a:stretch/>
        </p:blipFill>
        <p:spPr>
          <a:xfrm>
            <a:off x="870120" y="2849400"/>
            <a:ext cx="190440" cy="1047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current tab indicator"/>
          <p:cNvPicPr/>
          <p:nvPr/>
        </p:nvPicPr>
        <p:blipFill>
          <a:blip r:embed="rId6"/>
          <a:stretch/>
        </p:blipFill>
        <p:spPr>
          <a:xfrm>
            <a:off x="870120" y="2849400"/>
            <a:ext cx="190440" cy="1047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current tab indicator"/>
          <p:cNvPicPr/>
          <p:nvPr/>
        </p:nvPicPr>
        <p:blipFill>
          <a:blip r:embed="rId7"/>
          <a:stretch/>
        </p:blipFill>
        <p:spPr>
          <a:xfrm>
            <a:off x="870120" y="2849400"/>
            <a:ext cx="190440" cy="1047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current tab indicator"/>
          <p:cNvPicPr/>
          <p:nvPr/>
        </p:nvPicPr>
        <p:blipFill>
          <a:blip r:embed="rId8"/>
          <a:stretch/>
        </p:blipFill>
        <p:spPr>
          <a:xfrm>
            <a:off x="870120" y="2849400"/>
            <a:ext cx="190440" cy="1047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current tab indicator"/>
          <p:cNvPicPr/>
          <p:nvPr/>
        </p:nvPicPr>
        <p:blipFill>
          <a:blip r:embed="rId9"/>
          <a:stretch/>
        </p:blipFill>
        <p:spPr>
          <a:xfrm>
            <a:off x="870120" y="2849400"/>
            <a:ext cx="190440" cy="1047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current tab indicator"/>
          <p:cNvPicPr/>
          <p:nvPr/>
        </p:nvPicPr>
        <p:blipFill>
          <a:blip r:embed="rId10"/>
          <a:stretch/>
        </p:blipFill>
        <p:spPr>
          <a:xfrm>
            <a:off x="870120" y="2849400"/>
            <a:ext cx="190440" cy="1047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906560" y="2050920"/>
            <a:ext cx="6121440" cy="19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0000"/>
                </a:solidFill>
                <a:latin typeface="Arial"/>
              </a:rPr>
              <a:t>AHORRAR DIN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0000"/>
                </a:solidFill>
                <a:latin typeface="Arial"/>
              </a:rPr>
              <a:t>AHORRAR TRABA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0000"/>
                </a:solidFill>
                <a:latin typeface="Arial"/>
              </a:rPr>
              <a:t>AUMENTO LA SEGUR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1"/>
          <a:stretch/>
        </p:blipFill>
        <p:spPr>
          <a:xfrm>
            <a:off x="5451480" y="5445000"/>
            <a:ext cx="3657600" cy="1143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12"/>
          <a:stretch/>
        </p:blipFill>
        <p:spPr>
          <a:xfrm>
            <a:off x="468360" y="1628640"/>
            <a:ext cx="1511280" cy="1135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13"/>
          <a:stretch/>
        </p:blipFill>
        <p:spPr>
          <a:xfrm>
            <a:off x="784080" y="2922480"/>
            <a:ext cx="1051200" cy="10828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4"/>
          <a:stretch/>
        </p:blipFill>
        <p:spPr>
          <a:xfrm>
            <a:off x="509760" y="4149720"/>
            <a:ext cx="1325520" cy="1096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7524720" y="6553080"/>
          <a:ext cx="1619280" cy="22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720" y="6553080"/>
                    <a:ext cx="161928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4582440" y="44280"/>
            <a:ext cx="452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Building &amp; Commercial Service Di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692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Berlin Sans FB Demi"/>
              </a:rPr>
              <a:t>Tipos de Fib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71280" y="44280"/>
            <a:ext cx="684360" cy="3603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current tab indicator"/>
          <p:cNvPicPr/>
          <p:nvPr/>
        </p:nvPicPr>
        <p:blipFill>
          <a:blip r:embed="rId4"/>
          <a:stretch/>
        </p:blipFill>
        <p:spPr>
          <a:xfrm>
            <a:off x="870120" y="2849400"/>
            <a:ext cx="190440" cy="1047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current tab indicator"/>
          <p:cNvPicPr/>
          <p:nvPr/>
        </p:nvPicPr>
        <p:blipFill>
          <a:blip r:embed="rId5"/>
          <a:stretch/>
        </p:blipFill>
        <p:spPr>
          <a:xfrm>
            <a:off x="870120" y="2849400"/>
            <a:ext cx="190440" cy="1047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current tab indicator"/>
          <p:cNvPicPr/>
          <p:nvPr/>
        </p:nvPicPr>
        <p:blipFill>
          <a:blip r:embed="rId6"/>
          <a:stretch/>
        </p:blipFill>
        <p:spPr>
          <a:xfrm>
            <a:off x="870120" y="2849400"/>
            <a:ext cx="190440" cy="1047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current tab indicator"/>
          <p:cNvPicPr/>
          <p:nvPr/>
        </p:nvPicPr>
        <p:blipFill>
          <a:blip r:embed="rId7"/>
          <a:stretch/>
        </p:blipFill>
        <p:spPr>
          <a:xfrm>
            <a:off x="870120" y="2849400"/>
            <a:ext cx="190440" cy="1047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current tab indicator"/>
          <p:cNvPicPr/>
          <p:nvPr/>
        </p:nvPicPr>
        <p:blipFill>
          <a:blip r:embed="rId8"/>
          <a:stretch/>
        </p:blipFill>
        <p:spPr>
          <a:xfrm>
            <a:off x="870120" y="2849400"/>
            <a:ext cx="190440" cy="1047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current tab indicator"/>
          <p:cNvPicPr/>
          <p:nvPr/>
        </p:nvPicPr>
        <p:blipFill>
          <a:blip r:embed="rId9"/>
          <a:stretch/>
        </p:blipFill>
        <p:spPr>
          <a:xfrm>
            <a:off x="870120" y="2849400"/>
            <a:ext cx="190440" cy="1047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current tab indicator"/>
          <p:cNvPicPr/>
          <p:nvPr/>
        </p:nvPicPr>
        <p:blipFill>
          <a:blip r:embed="rId10"/>
          <a:stretch/>
        </p:blipFill>
        <p:spPr>
          <a:xfrm>
            <a:off x="870120" y="2849400"/>
            <a:ext cx="190440" cy="10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6" name=""/>
          <p:cNvGraphicFramePr/>
          <p:nvPr/>
        </p:nvGraphicFramePr>
        <p:xfrm>
          <a:off x="1523880" y="1541520"/>
          <a:ext cx="6096240" cy="426348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213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 rot="16200000">
            <a:off x="-1127880" y="3431520"/>
            <a:ext cx="442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-)                        Raya                          (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60160" y="6021360"/>
            <a:ext cx="625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-)                                     Abrasivo                                    (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1"/>
          <a:stretch/>
        </p:blipFill>
        <p:spPr>
          <a:xfrm>
            <a:off x="1619280" y="4843440"/>
            <a:ext cx="1152360" cy="8175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12"/>
          <a:stretch/>
        </p:blipFill>
        <p:spPr>
          <a:xfrm>
            <a:off x="3780000" y="1606680"/>
            <a:ext cx="1223640" cy="8143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13"/>
          <a:stretch/>
        </p:blipFill>
        <p:spPr>
          <a:xfrm>
            <a:off x="5076720" y="1587600"/>
            <a:ext cx="1224000" cy="8334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14"/>
          <a:stretch/>
        </p:blipFill>
        <p:spPr>
          <a:xfrm>
            <a:off x="6372360" y="1616040"/>
            <a:ext cx="1152360" cy="7826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15"/>
          <a:stretch/>
        </p:blipFill>
        <p:spPr>
          <a:xfrm>
            <a:off x="4643280" y="4437000"/>
            <a:ext cx="1224000" cy="8208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6"/>
          <a:stretch/>
        </p:blipFill>
        <p:spPr>
          <a:xfrm>
            <a:off x="6372360" y="3645000"/>
            <a:ext cx="1152360" cy="7938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356000" y="4221000"/>
            <a:ext cx="1800360" cy="1224000"/>
          </a:xfrm>
          <a:prstGeom prst="ellipse">
            <a:avLst/>
          </a:prstGeom>
          <a:noFill/>
          <a:ln cap="rnd" w="93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84720" y="3429000"/>
            <a:ext cx="1800360" cy="1295280"/>
          </a:xfrm>
          <a:prstGeom prst="ellipse">
            <a:avLst/>
          </a:prstGeom>
          <a:noFill/>
          <a:ln cap="rnd" w="93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83600" y="5229360"/>
            <a:ext cx="306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ECNOLOGIA DE AVANZ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7"/>
          <a:stretch/>
        </p:blipFill>
        <p:spPr>
          <a:xfrm>
            <a:off x="3780000" y="2421000"/>
            <a:ext cx="1225440" cy="8319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8"/>
          <a:stretch/>
        </p:blipFill>
        <p:spPr>
          <a:xfrm>
            <a:off x="3457440" y="4437000"/>
            <a:ext cx="1185840" cy="8287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132000" y="4221000"/>
            <a:ext cx="1800360" cy="1224000"/>
          </a:xfrm>
          <a:prstGeom prst="ellipse">
            <a:avLst/>
          </a:prstGeom>
          <a:noFill/>
          <a:ln cap="rnd" w="93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9"/>
          <a:stretch/>
        </p:blipFill>
        <p:spPr>
          <a:xfrm>
            <a:off x="3924360" y="3776760"/>
            <a:ext cx="1289160" cy="8762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708360" y="3573360"/>
            <a:ext cx="1800360" cy="1224000"/>
          </a:xfrm>
          <a:prstGeom prst="ellipse">
            <a:avLst/>
          </a:prstGeom>
          <a:noFill/>
          <a:ln cap="rnd" w="93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3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9000"/>
                            </p:stCondLst>
                            <p:childTnLst>
                              <p:par>
                                <p:cTn id="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3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7524720" y="6553080"/>
          <a:ext cx="1619280" cy="22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720" y="6553080"/>
                    <a:ext cx="161928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4582440" y="44280"/>
            <a:ext cx="452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Building &amp; Commercial Service Di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692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Berlin Sans FB Demi"/>
              </a:rPr>
              <a:t>Fibra Sua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Berlin Sans FB Demi"/>
              </a:rPr>
              <a:t>BLANCA nro 9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71280" y="44280"/>
            <a:ext cx="684360" cy="3603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current tab indicator"/>
          <p:cNvPicPr/>
          <p:nvPr/>
        </p:nvPicPr>
        <p:blipFill>
          <a:blip r:embed="rId4"/>
          <a:stretch/>
        </p:blipFill>
        <p:spPr>
          <a:xfrm>
            <a:off x="870120" y="2849400"/>
            <a:ext cx="190440" cy="1047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current tab indicator"/>
          <p:cNvPicPr/>
          <p:nvPr/>
        </p:nvPicPr>
        <p:blipFill>
          <a:blip r:embed="rId5"/>
          <a:stretch/>
        </p:blipFill>
        <p:spPr>
          <a:xfrm>
            <a:off x="870120" y="2849400"/>
            <a:ext cx="190440" cy="1047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current tab indicator"/>
          <p:cNvPicPr/>
          <p:nvPr/>
        </p:nvPicPr>
        <p:blipFill>
          <a:blip r:embed="rId6"/>
          <a:stretch/>
        </p:blipFill>
        <p:spPr>
          <a:xfrm>
            <a:off x="870120" y="2849400"/>
            <a:ext cx="190440" cy="1047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current tab indicator"/>
          <p:cNvPicPr/>
          <p:nvPr/>
        </p:nvPicPr>
        <p:blipFill>
          <a:blip r:embed="rId7"/>
          <a:stretch/>
        </p:blipFill>
        <p:spPr>
          <a:xfrm>
            <a:off x="870120" y="2849400"/>
            <a:ext cx="190440" cy="1047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current tab indicator"/>
          <p:cNvPicPr/>
          <p:nvPr/>
        </p:nvPicPr>
        <p:blipFill>
          <a:blip r:embed="rId8"/>
          <a:stretch/>
        </p:blipFill>
        <p:spPr>
          <a:xfrm>
            <a:off x="870120" y="2849400"/>
            <a:ext cx="190440" cy="1047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current tab indicator"/>
          <p:cNvPicPr/>
          <p:nvPr/>
        </p:nvPicPr>
        <p:blipFill>
          <a:blip r:embed="rId9"/>
          <a:stretch/>
        </p:blipFill>
        <p:spPr>
          <a:xfrm>
            <a:off x="870120" y="2849400"/>
            <a:ext cx="190440" cy="1047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current tab indicator"/>
          <p:cNvPicPr/>
          <p:nvPr/>
        </p:nvPicPr>
        <p:blipFill>
          <a:blip r:embed="rId10"/>
          <a:stretch/>
        </p:blipFill>
        <p:spPr>
          <a:xfrm>
            <a:off x="870120" y="2849400"/>
            <a:ext cx="190440" cy="1047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11"/>
          <a:stretch/>
        </p:blipFill>
        <p:spPr>
          <a:xfrm>
            <a:off x="5451480" y="5445000"/>
            <a:ext cx="3657600" cy="1143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79280" y="1916280"/>
            <a:ext cx="482436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3000"/>
          </a:bodyPr>
          <a:p>
            <a:pPr marL="79200" indent="-792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9200" indent="-792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Fibra livi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9200" indent="-792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9200" indent="-792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No tiene abras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9200" indent="-792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9200" indent="-792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No ra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9200" indent="-792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9200" indent="-792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Especial para vidrios, porcelana, tefl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9200" indent="-792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9200" indent="-792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9200" indent="-792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9200" indent="-792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9200" indent="-79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78880" y="5078520"/>
            <a:ext cx="23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u="sng">
                <a:solidFill>
                  <a:srgbClr val="000000"/>
                </a:solidFill>
                <a:uFillTx/>
                <a:latin typeface="Arial"/>
              </a:rPr>
              <a:t>CARACTERIS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324000" y="5516640"/>
            <a:ext cx="1085760" cy="10857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14"/>
          <a:stretch/>
        </p:blipFill>
        <p:spPr>
          <a:xfrm>
            <a:off x="1547640" y="573408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15"/>
          <a:stretch/>
        </p:blipFill>
        <p:spPr>
          <a:xfrm>
            <a:off x="5154480" y="2276640"/>
            <a:ext cx="3810240" cy="2705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7524720" y="6553080"/>
          <a:ext cx="1619280" cy="22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720" y="6553080"/>
                    <a:ext cx="161928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4582440" y="44280"/>
            <a:ext cx="452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Building &amp; Commercial Service Di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692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Berlin Sans FB Demi"/>
              </a:rPr>
              <a:t>Fibra Uso Gral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Berlin Sans FB Demi"/>
              </a:rPr>
              <a:t>NORMAL nro 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71280" y="44280"/>
            <a:ext cx="684360" cy="360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current tab indicator"/>
          <p:cNvPicPr/>
          <p:nvPr/>
        </p:nvPicPr>
        <p:blipFill>
          <a:blip r:embed="rId4"/>
          <a:stretch/>
        </p:blipFill>
        <p:spPr>
          <a:xfrm>
            <a:off x="870120" y="2849400"/>
            <a:ext cx="190440" cy="1047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current tab indicator"/>
          <p:cNvPicPr/>
          <p:nvPr/>
        </p:nvPicPr>
        <p:blipFill>
          <a:blip r:embed="rId5"/>
          <a:stretch/>
        </p:blipFill>
        <p:spPr>
          <a:xfrm>
            <a:off x="870120" y="2849400"/>
            <a:ext cx="190440" cy="1047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current tab indicator"/>
          <p:cNvPicPr/>
          <p:nvPr/>
        </p:nvPicPr>
        <p:blipFill>
          <a:blip r:embed="rId6"/>
          <a:stretch/>
        </p:blipFill>
        <p:spPr>
          <a:xfrm>
            <a:off x="870120" y="2849400"/>
            <a:ext cx="190440" cy="1047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current tab indicator"/>
          <p:cNvPicPr/>
          <p:nvPr/>
        </p:nvPicPr>
        <p:blipFill>
          <a:blip r:embed="rId7"/>
          <a:stretch/>
        </p:blipFill>
        <p:spPr>
          <a:xfrm>
            <a:off x="870120" y="2849400"/>
            <a:ext cx="190440" cy="1047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current tab indicator"/>
          <p:cNvPicPr/>
          <p:nvPr/>
        </p:nvPicPr>
        <p:blipFill>
          <a:blip r:embed="rId8"/>
          <a:stretch/>
        </p:blipFill>
        <p:spPr>
          <a:xfrm>
            <a:off x="870120" y="2849400"/>
            <a:ext cx="190440" cy="1047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current tab indicator"/>
          <p:cNvPicPr/>
          <p:nvPr/>
        </p:nvPicPr>
        <p:blipFill>
          <a:blip r:embed="rId9"/>
          <a:stretch/>
        </p:blipFill>
        <p:spPr>
          <a:xfrm>
            <a:off x="870120" y="2849400"/>
            <a:ext cx="190440" cy="1047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current tab indicator"/>
          <p:cNvPicPr/>
          <p:nvPr/>
        </p:nvPicPr>
        <p:blipFill>
          <a:blip r:embed="rId10"/>
          <a:stretch/>
        </p:blipFill>
        <p:spPr>
          <a:xfrm>
            <a:off x="870120" y="2849400"/>
            <a:ext cx="190440" cy="1047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11"/>
          <a:stretch/>
        </p:blipFill>
        <p:spPr>
          <a:xfrm>
            <a:off x="5451480" y="5445000"/>
            <a:ext cx="3657600" cy="1143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79280" y="2058840"/>
            <a:ext cx="4824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1000"/>
          </a:bodyPr>
          <a:p>
            <a:pPr marL="127800" indent="-127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Ideal para las tareas comunes de limpie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7800" indent="-127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7800" indent="-127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Se puede usar seca o húme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7800" indent="-127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7800" indent="-127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No recomendado para utilizar en superficies fáciles de ray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7800" indent="-127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7800" indent="-127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2"/>
          <a:stretch/>
        </p:blipFill>
        <p:spPr>
          <a:xfrm>
            <a:off x="4932360" y="2205000"/>
            <a:ext cx="4103640" cy="27306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478880" y="4862520"/>
            <a:ext cx="23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u="sng">
                <a:solidFill>
                  <a:srgbClr val="000000"/>
                </a:solidFill>
                <a:uFillTx/>
                <a:latin typeface="Arial"/>
              </a:rPr>
              <a:t>CARACTERIS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324000" y="5516640"/>
            <a:ext cx="1085760" cy="10857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15"/>
          <a:stretch/>
        </p:blipFill>
        <p:spPr>
          <a:xfrm>
            <a:off x="396720" y="5805360"/>
            <a:ext cx="719280" cy="7192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16"/>
          <a:stretch/>
        </p:blipFill>
        <p:spPr>
          <a:xfrm>
            <a:off x="1476360" y="5805360"/>
            <a:ext cx="792000" cy="792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7524720" y="6553080"/>
          <a:ext cx="1619280" cy="22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720" y="6553080"/>
                    <a:ext cx="161928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4582440" y="44280"/>
            <a:ext cx="452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Building &amp; Commercial Service Di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692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Berlin Sans FB Demi"/>
              </a:rPr>
              <a:t>Fibra Uso Fuert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Berlin Sans FB Demi"/>
              </a:rPr>
              <a:t>EXTRA FUERTE nro 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71280" y="44280"/>
            <a:ext cx="684360" cy="3603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current tab indicator"/>
          <p:cNvPicPr/>
          <p:nvPr/>
        </p:nvPicPr>
        <p:blipFill>
          <a:blip r:embed="rId4"/>
          <a:stretch/>
        </p:blipFill>
        <p:spPr>
          <a:xfrm>
            <a:off x="870120" y="2849400"/>
            <a:ext cx="190440" cy="1047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current tab indicator"/>
          <p:cNvPicPr/>
          <p:nvPr/>
        </p:nvPicPr>
        <p:blipFill>
          <a:blip r:embed="rId5"/>
          <a:stretch/>
        </p:blipFill>
        <p:spPr>
          <a:xfrm>
            <a:off x="870120" y="2849400"/>
            <a:ext cx="190440" cy="1047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current tab indicator"/>
          <p:cNvPicPr/>
          <p:nvPr/>
        </p:nvPicPr>
        <p:blipFill>
          <a:blip r:embed="rId6"/>
          <a:stretch/>
        </p:blipFill>
        <p:spPr>
          <a:xfrm>
            <a:off x="870120" y="2849400"/>
            <a:ext cx="190440" cy="1047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current tab indicator"/>
          <p:cNvPicPr/>
          <p:nvPr/>
        </p:nvPicPr>
        <p:blipFill>
          <a:blip r:embed="rId7"/>
          <a:stretch/>
        </p:blipFill>
        <p:spPr>
          <a:xfrm>
            <a:off x="870120" y="2849400"/>
            <a:ext cx="190440" cy="1047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current tab indicator"/>
          <p:cNvPicPr/>
          <p:nvPr/>
        </p:nvPicPr>
        <p:blipFill>
          <a:blip r:embed="rId8"/>
          <a:stretch/>
        </p:blipFill>
        <p:spPr>
          <a:xfrm>
            <a:off x="870120" y="2849400"/>
            <a:ext cx="190440" cy="1047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current tab indicator"/>
          <p:cNvPicPr/>
          <p:nvPr/>
        </p:nvPicPr>
        <p:blipFill>
          <a:blip r:embed="rId9"/>
          <a:stretch/>
        </p:blipFill>
        <p:spPr>
          <a:xfrm>
            <a:off x="870120" y="2849400"/>
            <a:ext cx="190440" cy="1047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current tab indicator"/>
          <p:cNvPicPr/>
          <p:nvPr/>
        </p:nvPicPr>
        <p:blipFill>
          <a:blip r:embed="rId10"/>
          <a:stretch/>
        </p:blipFill>
        <p:spPr>
          <a:xfrm>
            <a:off x="870120" y="2849400"/>
            <a:ext cx="190440" cy="1047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11"/>
          <a:stretch/>
        </p:blipFill>
        <p:spPr>
          <a:xfrm>
            <a:off x="5451480" y="5445000"/>
            <a:ext cx="3657600" cy="11430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79280" y="1916280"/>
            <a:ext cx="482436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3000"/>
          </a:bodyPr>
          <a:p>
            <a:pPr marL="79200" indent="-792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9200" indent="-792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Símil al uso de la virul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9200" indent="-792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9200" indent="-792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Se puede usar seca o húme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9200" indent="-792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9200" indent="-792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Ideal para limpieza pes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9200" indent="-792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9200" indent="-792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No utilizar en superficies fáciles de ray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9200" indent="-792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9200" indent="-79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478880" y="5078520"/>
            <a:ext cx="23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u="sng">
                <a:solidFill>
                  <a:srgbClr val="000000"/>
                </a:solidFill>
                <a:uFillTx/>
                <a:latin typeface="Arial"/>
              </a:rPr>
              <a:t>CARACTERIS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324000" y="5516640"/>
            <a:ext cx="1085760" cy="10857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14"/>
          <a:stretch/>
        </p:blipFill>
        <p:spPr>
          <a:xfrm>
            <a:off x="396720" y="5878440"/>
            <a:ext cx="719280" cy="7192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5"/>
          <a:stretch/>
        </p:blipFill>
        <p:spPr>
          <a:xfrm>
            <a:off x="1476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16"/>
          <a:stretch/>
        </p:blipFill>
        <p:spPr>
          <a:xfrm>
            <a:off x="4932360" y="2205000"/>
            <a:ext cx="4025880" cy="2736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7524720" y="6553080"/>
          <a:ext cx="1619280" cy="22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720" y="6553080"/>
                    <a:ext cx="161928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4582440" y="44280"/>
            <a:ext cx="452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Building &amp; Commercial Service Di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692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Berlin Sans FB Demi"/>
              </a:rPr>
              <a:t>Fibra Uso Fuert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Berlin Sans FB Demi"/>
              </a:rPr>
              <a:t>PARRILLERA nro 8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71280" y="44280"/>
            <a:ext cx="684360" cy="3603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current tab indicator"/>
          <p:cNvPicPr/>
          <p:nvPr/>
        </p:nvPicPr>
        <p:blipFill>
          <a:blip r:embed="rId4"/>
          <a:stretch/>
        </p:blipFill>
        <p:spPr>
          <a:xfrm>
            <a:off x="870120" y="2849400"/>
            <a:ext cx="190440" cy="1047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current tab indicator"/>
          <p:cNvPicPr/>
          <p:nvPr/>
        </p:nvPicPr>
        <p:blipFill>
          <a:blip r:embed="rId5"/>
          <a:stretch/>
        </p:blipFill>
        <p:spPr>
          <a:xfrm>
            <a:off x="870120" y="2849400"/>
            <a:ext cx="190440" cy="1047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current tab indicator"/>
          <p:cNvPicPr/>
          <p:nvPr/>
        </p:nvPicPr>
        <p:blipFill>
          <a:blip r:embed="rId6"/>
          <a:stretch/>
        </p:blipFill>
        <p:spPr>
          <a:xfrm>
            <a:off x="870120" y="2849400"/>
            <a:ext cx="190440" cy="1047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current tab indicator"/>
          <p:cNvPicPr/>
          <p:nvPr/>
        </p:nvPicPr>
        <p:blipFill>
          <a:blip r:embed="rId7"/>
          <a:stretch/>
        </p:blipFill>
        <p:spPr>
          <a:xfrm>
            <a:off x="870120" y="2849400"/>
            <a:ext cx="190440" cy="1047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current tab indicator"/>
          <p:cNvPicPr/>
          <p:nvPr/>
        </p:nvPicPr>
        <p:blipFill>
          <a:blip r:embed="rId8"/>
          <a:stretch/>
        </p:blipFill>
        <p:spPr>
          <a:xfrm>
            <a:off x="870120" y="2849400"/>
            <a:ext cx="190440" cy="1047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current tab indicator"/>
          <p:cNvPicPr/>
          <p:nvPr/>
        </p:nvPicPr>
        <p:blipFill>
          <a:blip r:embed="rId9"/>
          <a:stretch/>
        </p:blipFill>
        <p:spPr>
          <a:xfrm>
            <a:off x="870120" y="2849400"/>
            <a:ext cx="190440" cy="1047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current tab indicator"/>
          <p:cNvPicPr/>
          <p:nvPr/>
        </p:nvPicPr>
        <p:blipFill>
          <a:blip r:embed="rId10"/>
          <a:stretch/>
        </p:blipFill>
        <p:spPr>
          <a:xfrm>
            <a:off x="870120" y="2849400"/>
            <a:ext cx="190440" cy="1047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11"/>
          <a:stretch/>
        </p:blipFill>
        <p:spPr>
          <a:xfrm>
            <a:off x="5451480" y="5445000"/>
            <a:ext cx="3657600" cy="11430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79280" y="1916280"/>
            <a:ext cx="482436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3000"/>
          </a:bodyPr>
          <a:p>
            <a:pPr marL="79200" indent="-792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9200" indent="-792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Símil al uso de la viru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9200" indent="-792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9200" indent="-792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Se puede usar seca o húme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9200" indent="-792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9200" indent="-792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Ideal para limpieza pes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9200" indent="-792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9200" indent="-792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No utilizar en superficies fáciles de ray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9200" indent="-792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9200" indent="-79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78880" y="5078520"/>
            <a:ext cx="23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u="sng">
                <a:solidFill>
                  <a:srgbClr val="000000"/>
                </a:solidFill>
                <a:uFillTx/>
                <a:latin typeface="Arial"/>
              </a:rPr>
              <a:t>CARACTERIS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324000" y="5516640"/>
            <a:ext cx="1085760" cy="10857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14"/>
          <a:stretch/>
        </p:blipFill>
        <p:spPr>
          <a:xfrm>
            <a:off x="396720" y="5878440"/>
            <a:ext cx="719280" cy="7192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15"/>
          <a:stretch/>
        </p:blipFill>
        <p:spPr>
          <a:xfrm>
            <a:off x="1476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16"/>
          <a:stretch/>
        </p:blipFill>
        <p:spPr>
          <a:xfrm>
            <a:off x="4867200" y="2205000"/>
            <a:ext cx="4025880" cy="2736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2T20:05:49Z</dcterms:created>
  <dc:creator>AR399931</dc:creator>
  <dc:description/>
  <dc:language>en-US</dc:language>
  <cp:lastModifiedBy>ar</cp:lastModifiedBy>
  <dcterms:modified xsi:type="dcterms:W3CDTF">2009-09-21T13:59:54Z</dcterms:modified>
  <cp:revision>38</cp:revision>
  <dc:subject/>
  <dc:title>Slide 1</dc:title>
</cp:coreProperties>
</file>