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9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26.png" ContentType="image/png"/>
  <Override PartName="/ppt/media/image4.jpeg" ContentType="image/jpeg"/>
  <Override PartName="/ppt/media/image8.wmf" ContentType="image/x-wmf"/>
  <Override PartName="/ppt/media/image13.wmf" ContentType="image/x-wmf"/>
  <Override PartName="/ppt/media/image6.jpeg" ContentType="image/jpeg"/>
  <Override PartName="/ppt/media/image12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2104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26360"/>
            <a:ext cx="72104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8048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2636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80480" y="372636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3720" y="152352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1640" y="152352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2636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3720" y="372636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1640" y="372636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2104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2104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186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80480" y="1523520"/>
            <a:ext cx="35186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618840"/>
            <a:ext cx="792468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80480" y="1523520"/>
            <a:ext cx="35186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72636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2104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186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8048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0480" y="372636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8048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726360"/>
            <a:ext cx="72104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2104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440" y="3726360"/>
            <a:ext cx="72104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8048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72636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80480" y="372636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23720" y="152352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61640" y="152352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440" y="372636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23720" y="372636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61640" y="3726360"/>
            <a:ext cx="2321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2104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186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80480" y="1523520"/>
            <a:ext cx="35186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618840"/>
            <a:ext cx="792468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80480" y="1523520"/>
            <a:ext cx="35186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2636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186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8048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80480" y="372636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80480" y="1523520"/>
            <a:ext cx="35186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26360"/>
            <a:ext cx="72104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2104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406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spcAft>
                <a:spcPts val="524"/>
              </a:spcAft>
              <a:buClr>
                <a:srgbClr val="4d4d4d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spcAft>
                <a:spcPts val="524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spcAft>
                <a:spcPts val="524"/>
              </a:spcAft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7360" y="657216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Narrow"/>
              </a:rPr>
              <a:t>&lt;date/time&gt;</a:t>
            </a:r>
            <a:r>
              <a:rPr b="0" lang="en-US" sz="1000" spc="-1" strike="noStrike">
                <a:solidFill>
                  <a:srgbClr val="808080"/>
                </a:solidFill>
                <a:latin typeface="Arial Narrow"/>
              </a:rPr>
              <a:t>© 3M 2007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1200" y="195120"/>
            <a:ext cx="530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Identifier – e.g., 3M Corporate Communications (16 pt. Arial Narr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150400" y="6172200"/>
            <a:ext cx="685800" cy="382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6680" y="6388200"/>
            <a:ext cx="4842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B015-4AA8-46CC-BC43-B5740AE943D5}" type="slidenum">
              <a:rPr b="1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79246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1200" y="195120"/>
            <a:ext cx="530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Identifier – e.g., 3M Corporate Communications (16 pt. Arial Narr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657360" y="6572160"/>
            <a:ext cx="21333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Narrow"/>
              </a:rPr>
              <a:t>&lt;date/time&gt;</a:t>
            </a:r>
            <a:r>
              <a:rPr b="0" lang="en-US" sz="1000" spc="-1" strike="noStrike">
                <a:solidFill>
                  <a:srgbClr val="808080"/>
                </a:solidFill>
                <a:latin typeface="Arial Narrow"/>
              </a:rPr>
              <a:t>© 3M 2007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12080" y="5987880"/>
            <a:ext cx="874800" cy="490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lvl="1" marL="457200" indent="0"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i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lvl="2" marL="914400" algn="ctr">
              <a:spcAft>
                <a:spcPts val="601"/>
              </a:spcAft>
              <a:buClr>
                <a:srgbClr val="4d4d4d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i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4d4d4d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4d4d4d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20.wmf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21.png"/><Relationship Id="rId23" Type="http://schemas.openxmlformats.org/officeDocument/2006/relationships/image" Target="../media/image22.wmf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wmf"/><Relationship Id="rId32" Type="http://schemas.openxmlformats.org/officeDocument/2006/relationships/image" Target="../media/image28.wmf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5920" y="4046400"/>
            <a:ext cx="886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Narrow"/>
                <a:ea typeface="Arial"/>
              </a:rPr>
              <a:t>Calidad en su Cadena de Val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4360" y="4565520"/>
            <a:ext cx="7471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 Narrow"/>
                <a:ea typeface="Arial"/>
              </a:rPr>
              <a:t>Cuidando sus Cliente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79246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mperature Logger TL 20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691200" y="195120"/>
            <a:ext cx="530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Identifier – e.g., 3M Corporate Communications (16 pt. Arial Narr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912080" y="5987880"/>
            <a:ext cx="874800" cy="490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7360" y="6572160"/>
            <a:ext cx="2133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Narrow"/>
              </a:rPr>
              <a:t>&lt;date/time&gt;</a:t>
            </a:r>
            <a:r>
              <a:rPr b="0" lang="en-US" sz="1000" spc="-1" strike="noStrike">
                <a:solidFill>
                  <a:srgbClr val="808080"/>
                </a:solidFill>
                <a:latin typeface="Arial Narrow"/>
              </a:rPr>
              <a:t>© 3M 2007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5120"/>
            <a:ext cx="5475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Building &amp; Commercial Service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rcRect l="3300" t="16136" r="19670" b="14914"/>
          <a:stretch/>
        </p:blipFill>
        <p:spPr>
          <a:xfrm>
            <a:off x="7124760" y="162000"/>
            <a:ext cx="1820880" cy="122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mperature Logger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3040" y="1523520"/>
            <a:ext cx="84582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406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80808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Arial Narrow"/>
              </a:rPr>
              <a:t>Monitoree en todo momento las temperaturas de su mercaderia o materias primas</a:t>
            </a:r>
            <a:endParaRPr b="0" i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80808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Arial Narrow"/>
              </a:rPr>
              <a:t>Baje los registros de historial de temperaturas en su PC</a:t>
            </a:r>
            <a:endParaRPr b="0" i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80808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Arial Narrow"/>
              </a:rPr>
              <a:t>Se pueden registrar hasta 12.000 temperaturas y tiempos</a:t>
            </a:r>
            <a:endParaRPr b="0" i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80808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Arial Narrow"/>
              </a:rPr>
              <a:t>Registre en Grados Centigrados y Fahrenheits</a:t>
            </a:r>
            <a:endParaRPr b="0" i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80808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Arial Narrow"/>
              </a:rPr>
              <a:t>Vida Util 1 año</a:t>
            </a:r>
            <a:endParaRPr b="0" i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80808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Arial Narrow"/>
              </a:rPr>
              <a:t>Mayor costo beneficio dentro de los sistemas de medición existentes</a:t>
            </a:r>
            <a:endParaRPr b="0" i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5120"/>
            <a:ext cx="5475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Building &amp; Commercial Service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3300" t="16136" r="19670" b="14914"/>
          <a:stretch/>
        </p:blipFill>
        <p:spPr>
          <a:xfrm>
            <a:off x="7124760" y="162000"/>
            <a:ext cx="1820880" cy="122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 Logger en toda su caden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5120"/>
            <a:ext cx="5475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Building &amp; Commercial Service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300" t="16136" r="19670" b="14914"/>
          <a:stretch/>
        </p:blipFill>
        <p:spPr>
          <a:xfrm>
            <a:off x="7124760" y="162000"/>
            <a:ext cx="1820880" cy="1222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880400" y="1828800"/>
            <a:ext cx="1076400" cy="3840120"/>
          </a:xfrm>
          <a:prstGeom prst="rect">
            <a:avLst/>
          </a:prstGeom>
          <a:gradFill rotWithShape="0">
            <a:gsLst>
              <a:gs pos="0">
                <a:srgbClr val="ff3300">
                  <a:alpha val="14117"/>
                </a:srgbClr>
              </a:gs>
              <a:gs pos="100000">
                <a:srgbClr val="ff3300">
                  <a:alpha val="14117"/>
                </a:srgbClr>
              </a:gs>
            </a:gsLst>
            <a:lin ang="5400000"/>
          </a:gradFill>
          <a:ln w="9360">
            <a:solidFill>
              <a:srgbClr val="aec0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6680" y="1828800"/>
            <a:ext cx="2009880" cy="3840120"/>
          </a:xfrm>
          <a:prstGeom prst="rect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ff3300">
                  <a:alpha val="37254"/>
                </a:srgbClr>
              </a:gs>
            </a:gsLst>
            <a:lin ang="13500000"/>
          </a:gradFill>
          <a:ln w="9360">
            <a:solidFill>
              <a:srgbClr val="aec0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1530360" cy="3840120"/>
          </a:xfrm>
          <a:prstGeom prst="rect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ff3300">
                  <a:alpha val="37254"/>
                </a:srgbClr>
              </a:gs>
            </a:gsLst>
            <a:lin ang="13500000"/>
          </a:gradFill>
          <a:ln w="9360">
            <a:solidFill>
              <a:srgbClr val="aec0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143680"/>
            <a:ext cx="147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95320" y="3732120"/>
            <a:ext cx="74520" cy="4366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57400" y="4017960"/>
            <a:ext cx="222120" cy="150840"/>
          </a:xfrm>
          <a:prstGeom prst="triangle">
            <a:avLst>
              <a:gd name="adj" fmla="val 49954"/>
            </a:avLst>
          </a:prstGeom>
          <a:solidFill>
            <a:srgbClr val="00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20600" y="4017960"/>
            <a:ext cx="222480" cy="150840"/>
          </a:xfrm>
          <a:prstGeom prst="triangle">
            <a:avLst>
              <a:gd name="adj" fmla="val 49954"/>
            </a:avLst>
          </a:prstGeom>
          <a:solidFill>
            <a:srgbClr val="00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7400" y="4017960"/>
            <a:ext cx="219240" cy="150840"/>
          </a:xfrm>
          <a:prstGeom prst="triangle">
            <a:avLst>
              <a:gd name="adj" fmla="val 49954"/>
            </a:avLst>
          </a:prstGeom>
          <a:solidFill>
            <a:srgbClr val="00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4320" y="3732120"/>
            <a:ext cx="74520" cy="4366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6480" y="4156200"/>
            <a:ext cx="728640" cy="171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984320" y="4003560"/>
            <a:ext cx="975960" cy="182160"/>
            <a:chOff x="1984320" y="4003560"/>
            <a:chExt cx="975960" cy="182160"/>
          </a:xfrm>
        </p:grpSpPr>
        <p:sp>
          <p:nvSpPr>
            <p:cNvPr id="115" name=""/>
            <p:cNvSpPr/>
            <p:nvPr/>
          </p:nvSpPr>
          <p:spPr>
            <a:xfrm>
              <a:off x="1984320" y="4003560"/>
              <a:ext cx="797400" cy="15228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7120" y="4066200"/>
              <a:ext cx="173160" cy="8928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73600" y="4159080"/>
              <a:ext cx="39960" cy="266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17520" y="4159080"/>
              <a:ext cx="39960" cy="2664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87120" y="4159080"/>
              <a:ext cx="39960" cy="2664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797120" y="4257720"/>
            <a:ext cx="1912680" cy="185400"/>
            <a:chOff x="1797120" y="4257720"/>
            <a:chExt cx="1912680" cy="185400"/>
          </a:xfrm>
        </p:grpSpPr>
        <p:sp>
          <p:nvSpPr>
            <p:cNvPr id="121" name=""/>
            <p:cNvSpPr/>
            <p:nvPr/>
          </p:nvSpPr>
          <p:spPr>
            <a:xfrm>
              <a:off x="2732400" y="4257720"/>
              <a:ext cx="800280" cy="15444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36640" y="4320360"/>
              <a:ext cx="173160" cy="9144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22040" y="4416840"/>
              <a:ext cx="39960" cy="2628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68120" y="4416840"/>
              <a:ext cx="37800" cy="2628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36640" y="4416840"/>
              <a:ext cx="39960" cy="2628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7120" y="4257720"/>
              <a:ext cx="798480" cy="15444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86760" y="4416840"/>
              <a:ext cx="37800" cy="2628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30320" y="4416840"/>
              <a:ext cx="38520" cy="2628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9560" y="4416840"/>
              <a:ext cx="39960" cy="2628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08200" y="4395600"/>
              <a:ext cx="9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96920" y="4511520"/>
            <a:ext cx="890640" cy="220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703600" y="4511520"/>
            <a:ext cx="890640" cy="220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84480" y="4637160"/>
            <a:ext cx="74520" cy="745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27400" y="4637160"/>
            <a:ext cx="74520" cy="745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68520" y="4637160"/>
            <a:ext cx="74520" cy="745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11440" y="4637160"/>
            <a:ext cx="74520" cy="745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52560" y="4637160"/>
            <a:ext cx="74880" cy="745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2600" y="4637160"/>
            <a:ext cx="74520" cy="745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35160" y="4637160"/>
            <a:ext cx="74880" cy="745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78080" y="4637160"/>
            <a:ext cx="74880" cy="745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9560" y="4637160"/>
            <a:ext cx="74520" cy="745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59240" y="4637160"/>
            <a:ext cx="74520" cy="7452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81280" y="4721400"/>
            <a:ext cx="1780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63880" y="3716280"/>
            <a:ext cx="609120" cy="185400"/>
            <a:chOff x="2063880" y="3716280"/>
            <a:chExt cx="609120" cy="185400"/>
          </a:xfrm>
        </p:grpSpPr>
        <p:sp>
          <p:nvSpPr>
            <p:cNvPr id="145" name=""/>
            <p:cNvSpPr/>
            <p:nvPr/>
          </p:nvSpPr>
          <p:spPr>
            <a:xfrm>
              <a:off x="2063880" y="3716280"/>
              <a:ext cx="497520" cy="15588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65360" y="3780720"/>
              <a:ext cx="107640" cy="9108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18600" y="3875400"/>
              <a:ext cx="25560" cy="262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47400" y="3875400"/>
              <a:ext cx="23760" cy="2628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65360" y="3875400"/>
              <a:ext cx="23400" cy="2628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0" name=""/>
          <p:cNvCxnSpPr>
            <a:stCxn id="113" idx="3"/>
            <a:endCxn id="131" idx="1"/>
          </p:cNvCxnSpPr>
          <p:nvPr/>
        </p:nvCxnSpPr>
        <p:spPr>
          <a:xfrm>
            <a:off x="1364760" y="4241880"/>
            <a:ext cx="632520" cy="381600"/>
          </a:xfrm>
          <a:prstGeom prst="bentConnector3">
            <a:avLst>
              <a:gd name="adj1" fmla="val 49715"/>
            </a:avLst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</p:cxnSp>
      <p:cxnSp>
        <p:nvCxnSpPr>
          <p:cNvPr id="151" name=""/>
          <p:cNvCxnSpPr>
            <a:stCxn id="113" idx="3"/>
            <a:endCxn id="126" idx="1"/>
          </p:cNvCxnSpPr>
          <p:nvPr/>
        </p:nvCxnSpPr>
        <p:spPr>
          <a:xfrm>
            <a:off x="1365120" y="4241880"/>
            <a:ext cx="432720" cy="94320"/>
          </a:xfrm>
          <a:prstGeom prst="bentConnector3">
            <a:avLst>
              <a:gd name="adj1" fmla="val 49625"/>
            </a:avLst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</p:cxnSp>
      <p:cxnSp>
        <p:nvCxnSpPr>
          <p:cNvPr id="152" name=""/>
          <p:cNvCxnSpPr>
            <a:stCxn id="113" idx="3"/>
            <a:endCxn id="115" idx="1"/>
          </p:cNvCxnSpPr>
          <p:nvPr/>
        </p:nvCxnSpPr>
        <p:spPr>
          <a:xfrm flipV="1">
            <a:off x="1365120" y="4079520"/>
            <a:ext cx="619920" cy="162720"/>
          </a:xfrm>
          <a:prstGeom prst="bentConnector3">
            <a:avLst>
              <a:gd name="adj1" fmla="val 49738"/>
            </a:avLst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</p:cxnSp>
      <p:cxnSp>
        <p:nvCxnSpPr>
          <p:cNvPr id="153" name=""/>
          <p:cNvCxnSpPr>
            <a:stCxn id="113" idx="3"/>
            <a:endCxn id="145" idx="1"/>
          </p:cNvCxnSpPr>
          <p:nvPr/>
        </p:nvCxnSpPr>
        <p:spPr>
          <a:xfrm flipV="1">
            <a:off x="1364760" y="3793680"/>
            <a:ext cx="699480" cy="448560"/>
          </a:xfrm>
          <a:prstGeom prst="bentConnector3">
            <a:avLst>
              <a:gd name="adj1" fmla="val 49742"/>
            </a:avLst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</p:cxn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067200" y="2085840"/>
            <a:ext cx="880920" cy="2700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2811600" y="2411280"/>
            <a:ext cx="488520" cy="376200"/>
            <a:chOff x="2811600" y="2411280"/>
            <a:chExt cx="488520" cy="376200"/>
          </a:xfrm>
        </p:grpSpPr>
        <p:sp>
          <p:nvSpPr>
            <p:cNvPr id="156" name=""/>
            <p:cNvSpPr/>
            <p:nvPr/>
          </p:nvSpPr>
          <p:spPr>
            <a:xfrm>
              <a:off x="2811600" y="2411280"/>
              <a:ext cx="488520" cy="376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6520" y="2414880"/>
              <a:ext cx="0" cy="37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79800" y="2414880"/>
              <a:ext cx="0" cy="37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24520" y="2414880"/>
              <a:ext cx="0" cy="37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6280" y="2762280"/>
              <a:ext cx="4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2846160" y="2518560"/>
              <a:ext cx="442440" cy="18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608280" y="2413080"/>
            <a:ext cx="488520" cy="376200"/>
            <a:chOff x="3608280" y="2413080"/>
            <a:chExt cx="488520" cy="376200"/>
          </a:xfrm>
        </p:grpSpPr>
        <p:sp>
          <p:nvSpPr>
            <p:cNvPr id="163" name=""/>
            <p:cNvSpPr/>
            <p:nvPr/>
          </p:nvSpPr>
          <p:spPr>
            <a:xfrm>
              <a:off x="3608280" y="2413080"/>
              <a:ext cx="488520" cy="376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33200" y="2417040"/>
              <a:ext cx="0" cy="3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76480" y="2417040"/>
              <a:ext cx="0" cy="3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21200" y="2417040"/>
              <a:ext cx="0" cy="3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12960" y="2764080"/>
              <a:ext cx="4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6"/>
            <a:stretch/>
          </p:blipFill>
          <p:spPr>
            <a:xfrm>
              <a:off x="3642840" y="2520360"/>
              <a:ext cx="442440" cy="1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2906640" y="2790720"/>
            <a:ext cx="1019160" cy="354240"/>
          </a:xfrm>
          <a:prstGeom prst="rect">
            <a:avLst/>
          </a:prstGeom>
          <a:ln w="0">
            <a:noFill/>
          </a:ln>
        </p:spPr>
      </p:pic>
      <p:cxnSp>
        <p:nvCxnSpPr>
          <p:cNvPr id="170" name=""/>
          <p:cNvCxnSpPr>
            <a:stCxn id="146" idx="3"/>
            <a:endCxn id="161" idx="1"/>
          </p:cNvCxnSpPr>
          <p:nvPr/>
        </p:nvCxnSpPr>
        <p:spPr>
          <a:xfrm flipV="1">
            <a:off x="2673000" y="2612520"/>
            <a:ext cx="173880" cy="1215360"/>
          </a:xfrm>
          <a:prstGeom prst="bentConnector3">
            <a:avLst>
              <a:gd name="adj1" fmla="val 49377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1" idx="3"/>
            <a:endCxn id="168" idx="1"/>
          </p:cNvCxnSpPr>
          <p:nvPr/>
        </p:nvCxnSpPr>
        <p:spPr>
          <a:xfrm>
            <a:off x="3288960" y="2612520"/>
            <a:ext cx="354600" cy="2520"/>
          </a:xfrm>
          <a:prstGeom prst="bentConnector3">
            <a:avLst>
              <a:gd name="adj1" fmla="val 49695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grpSp>
        <p:nvGrpSpPr>
          <p:cNvPr id="172" name=""/>
          <p:cNvGrpSpPr/>
          <p:nvPr/>
        </p:nvGrpSpPr>
        <p:grpSpPr>
          <a:xfrm>
            <a:off x="4316400" y="3716280"/>
            <a:ext cx="607680" cy="185400"/>
            <a:chOff x="4316400" y="3716280"/>
            <a:chExt cx="607680" cy="185400"/>
          </a:xfrm>
        </p:grpSpPr>
        <p:sp>
          <p:nvSpPr>
            <p:cNvPr id="173" name=""/>
            <p:cNvSpPr/>
            <p:nvPr/>
          </p:nvSpPr>
          <p:spPr>
            <a:xfrm>
              <a:off x="4316400" y="3716280"/>
              <a:ext cx="496440" cy="15588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16440" y="3780720"/>
              <a:ext cx="107640" cy="91080"/>
            </a:xfrm>
            <a:prstGeom prst="rect">
              <a:avLst/>
            </a:prstGeom>
            <a:solidFill>
              <a:srgbClr val="a5002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70760" y="3875400"/>
              <a:ext cx="25560" cy="262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99920" y="3875400"/>
              <a:ext cx="23760" cy="2628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16440" y="3875400"/>
              <a:ext cx="23400" cy="2628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68" idx="3"/>
            <a:endCxn id="173" idx="1"/>
          </p:cNvCxnSpPr>
          <p:nvPr/>
        </p:nvCxnSpPr>
        <p:spPr>
          <a:xfrm>
            <a:off x="4086000" y="2614680"/>
            <a:ext cx="230760" cy="1180080"/>
          </a:xfrm>
          <a:prstGeom prst="bentConnector3">
            <a:avLst>
              <a:gd name="adj1" fmla="val 49531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grpSp>
        <p:nvGrpSpPr>
          <p:cNvPr id="179" name=""/>
          <p:cNvGrpSpPr/>
          <p:nvPr/>
        </p:nvGrpSpPr>
        <p:grpSpPr>
          <a:xfrm>
            <a:off x="5079960" y="4154400"/>
            <a:ext cx="1076400" cy="450720"/>
            <a:chOff x="5079960" y="4154400"/>
            <a:chExt cx="1076400" cy="450720"/>
          </a:xfrm>
        </p:grpSpPr>
        <p:sp>
          <p:nvSpPr>
            <p:cNvPr id="180" name=""/>
            <p:cNvSpPr/>
            <p:nvPr/>
          </p:nvSpPr>
          <p:spPr>
            <a:xfrm>
              <a:off x="5079960" y="4154400"/>
              <a:ext cx="1076400" cy="402480"/>
            </a:xfrm>
            <a:prstGeom prst="cube">
              <a:avLst>
                <a:gd name="adj" fmla="val 2495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8"/>
            <a:stretch/>
          </p:blipFill>
          <p:spPr>
            <a:xfrm>
              <a:off x="5100120" y="4408920"/>
              <a:ext cx="13464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9"/>
            <a:stretch/>
          </p:blipFill>
          <p:spPr>
            <a:xfrm>
              <a:off x="5231880" y="4408920"/>
              <a:ext cx="13572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0"/>
            <a:stretch/>
          </p:blipFill>
          <p:spPr>
            <a:xfrm>
              <a:off x="5364000" y="4408920"/>
              <a:ext cx="13464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1"/>
            <a:stretch/>
          </p:blipFill>
          <p:spPr>
            <a:xfrm>
              <a:off x="5694120" y="4408920"/>
              <a:ext cx="13464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2"/>
            <a:stretch/>
          </p:blipFill>
          <p:spPr>
            <a:xfrm>
              <a:off x="5825520" y="4408920"/>
              <a:ext cx="13464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3"/>
            <a:stretch/>
          </p:blipFill>
          <p:spPr>
            <a:xfrm>
              <a:off x="5979960" y="4408920"/>
              <a:ext cx="13536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4"/>
            <a:stretch/>
          </p:blipFill>
          <p:spPr>
            <a:xfrm>
              <a:off x="5539320" y="4299120"/>
              <a:ext cx="136080" cy="30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"/>
          <p:cNvSpPr/>
          <p:nvPr/>
        </p:nvSpPr>
        <p:spPr>
          <a:xfrm rot="21540000">
            <a:off x="5149440" y="4721400"/>
            <a:ext cx="393840" cy="74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1540000">
            <a:off x="5149440" y="4762440"/>
            <a:ext cx="393840" cy="745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1540000">
            <a:off x="5149440" y="4786200"/>
            <a:ext cx="393840" cy="74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1540000">
            <a:off x="5149440" y="4838760"/>
            <a:ext cx="393840" cy="1206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1540000">
            <a:off x="5151240" y="4884840"/>
            <a:ext cx="393480" cy="74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14960" y="4716360"/>
            <a:ext cx="66600" cy="46080"/>
          </a:xfrm>
          <a:prstGeom prst="line">
            <a:avLst/>
          </a:prstGeom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24320" y="4716360"/>
            <a:ext cx="325440" cy="1800"/>
          </a:xfrm>
          <a:prstGeom prst="line">
            <a:avLst/>
          </a:prstGeom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49760" y="4719600"/>
            <a:ext cx="18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7840" y="4641840"/>
            <a:ext cx="369720" cy="36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506"/>
                </a:moveTo>
                <a:arcTo wR="10800" hR="10800" stAng="-10706266" swAng="8361178"/>
                <a:lnTo>
                  <a:pt x="10800" y="10800"/>
                </a:lnTo>
                <a:close/>
              </a:path>
              <a:path fill="none" w="21600" h="21600">
                <a:moveTo>
                  <a:pt x="4" y="10506"/>
                </a:moveTo>
                <a:arcTo wR="10800" hR="10800" stAng="-10706266" swAng="8361178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667480" y="4584600"/>
            <a:ext cx="569520" cy="453600"/>
            <a:chOff x="5667480" y="4584600"/>
            <a:chExt cx="569520" cy="453600"/>
          </a:xfrm>
        </p:grpSpPr>
        <p:grpSp>
          <p:nvGrpSpPr>
            <p:cNvPr id="198" name=""/>
            <p:cNvGrpSpPr/>
            <p:nvPr/>
          </p:nvGrpSpPr>
          <p:grpSpPr>
            <a:xfrm>
              <a:off x="5749200" y="4642560"/>
              <a:ext cx="366840" cy="208800"/>
              <a:chOff x="5749200" y="4642560"/>
              <a:chExt cx="366840" cy="208800"/>
            </a:xfrm>
          </p:grpSpPr>
          <p:sp>
            <p:nvSpPr>
              <p:cNvPr id="199" name=""/>
              <p:cNvSpPr/>
              <p:nvPr/>
            </p:nvSpPr>
            <p:spPr>
              <a:xfrm>
                <a:off x="5749200" y="4642560"/>
                <a:ext cx="74880" cy="208800"/>
              </a:xfrm>
              <a:custGeom>
                <a:avLst/>
                <a:gdLst/>
                <a:ahLst/>
                <a:rect l="l" t="t" r="r" b="b"/>
                <a:pathLst>
                  <a:path w="41" h="126">
                    <a:moveTo>
                      <a:pt x="40" y="0"/>
                    </a:moveTo>
                    <a:lnTo>
                      <a:pt x="24" y="0"/>
                    </a:lnTo>
                    <a:lnTo>
                      <a:pt x="12" y="2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15"/>
                    </a:lnTo>
                    <a:lnTo>
                      <a:pt x="4" y="120"/>
                    </a:lnTo>
                    <a:lnTo>
                      <a:pt x="12" y="122"/>
                    </a:lnTo>
                    <a:lnTo>
                      <a:pt x="24" y="125"/>
                    </a:lnTo>
                    <a:lnTo>
                      <a:pt x="40" y="1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93560" y="4642560"/>
                <a:ext cx="78120" cy="208800"/>
              </a:xfrm>
              <a:custGeom>
                <a:avLst/>
                <a:gdLst/>
                <a:ahLst/>
                <a:rect l="l" t="t" r="r" b="b"/>
                <a:pathLst>
                  <a:path w="43" h="126">
                    <a:moveTo>
                      <a:pt x="42" y="0"/>
                    </a:moveTo>
                    <a:lnTo>
                      <a:pt x="24" y="0"/>
                    </a:lnTo>
                    <a:lnTo>
                      <a:pt x="12" y="2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15"/>
                    </a:lnTo>
                    <a:lnTo>
                      <a:pt x="4" y="120"/>
                    </a:lnTo>
                    <a:lnTo>
                      <a:pt x="12" y="122"/>
                    </a:lnTo>
                    <a:lnTo>
                      <a:pt x="24" y="125"/>
                    </a:lnTo>
                    <a:lnTo>
                      <a:pt x="42" y="1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037560" y="4642560"/>
                <a:ext cx="78480" cy="208800"/>
              </a:xfrm>
              <a:custGeom>
                <a:avLst/>
                <a:gdLst/>
                <a:ahLst/>
                <a:rect l="l" t="t" r="r" b="b"/>
                <a:pathLst>
                  <a:path w="43" h="126">
                    <a:moveTo>
                      <a:pt x="42" y="0"/>
                    </a:moveTo>
                    <a:lnTo>
                      <a:pt x="25" y="0"/>
                    </a:lnTo>
                    <a:lnTo>
                      <a:pt x="13" y="2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15"/>
                    </a:lnTo>
                    <a:lnTo>
                      <a:pt x="4" y="120"/>
                    </a:lnTo>
                    <a:lnTo>
                      <a:pt x="13" y="122"/>
                    </a:lnTo>
                    <a:lnTo>
                      <a:pt x="25" y="125"/>
                    </a:lnTo>
                    <a:lnTo>
                      <a:pt x="42" y="1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22280" y="4645800"/>
                <a:ext cx="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968080" y="4645800"/>
                <a:ext cx="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14240" y="4645800"/>
                <a:ext cx="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rot="21540000">
              <a:off x="5752800" y="4958640"/>
              <a:ext cx="392400" cy="428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540000">
              <a:off x="5752800" y="4908600"/>
              <a:ext cx="392400" cy="417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1540000">
              <a:off x="5753160" y="4802040"/>
              <a:ext cx="392400" cy="9504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968440" y="5008680"/>
              <a:ext cx="49680" cy="29520"/>
            </a:xfrm>
            <a:prstGeom prst="ellips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754960" y="4692240"/>
              <a:ext cx="358920" cy="105840"/>
              <a:chOff x="5754960" y="4692240"/>
              <a:chExt cx="358920" cy="105840"/>
            </a:xfrm>
          </p:grpSpPr>
          <p:sp>
            <p:nvSpPr>
              <p:cNvPr id="210" name=""/>
              <p:cNvSpPr/>
              <p:nvPr/>
            </p:nvSpPr>
            <p:spPr>
              <a:xfrm>
                <a:off x="5754960" y="4692240"/>
                <a:ext cx="35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54960" y="4745160"/>
                <a:ext cx="35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54960" y="4798080"/>
                <a:ext cx="35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V="1">
              <a:off x="6114600" y="464364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747760" y="5008680"/>
              <a:ext cx="48960" cy="29520"/>
            </a:xfrm>
            <a:prstGeom prst="ellips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820480" y="5008680"/>
              <a:ext cx="48960" cy="29520"/>
            </a:xfrm>
            <a:prstGeom prst="ellips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042600" y="5008680"/>
              <a:ext cx="45720" cy="29520"/>
            </a:xfrm>
            <a:prstGeom prst="ellips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23"/>
            <a:stretch/>
          </p:blipFill>
          <p:spPr>
            <a:xfrm>
              <a:off x="5667480" y="4584600"/>
              <a:ext cx="56952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753160" y="4589280"/>
              <a:ext cx="36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756480" y="2017800"/>
            <a:ext cx="826560" cy="670680"/>
            <a:chOff x="6756480" y="2017800"/>
            <a:chExt cx="826560" cy="670680"/>
          </a:xfrm>
        </p:grpSpPr>
        <p:sp>
          <p:nvSpPr>
            <p:cNvPr id="220" name=""/>
            <p:cNvSpPr/>
            <p:nvPr/>
          </p:nvSpPr>
          <p:spPr>
            <a:xfrm>
              <a:off x="6756480" y="2426400"/>
              <a:ext cx="646560" cy="2620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05200" y="2017800"/>
              <a:ext cx="141480" cy="6706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8120" y="2293200"/>
              <a:ext cx="34920" cy="3952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27760" y="2293200"/>
              <a:ext cx="574920" cy="1224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077320" y="1981080"/>
            <a:ext cx="849240" cy="528840"/>
            <a:chOff x="8077320" y="1981080"/>
            <a:chExt cx="849240" cy="528840"/>
          </a:xfrm>
        </p:grpSpPr>
        <p:sp>
          <p:nvSpPr>
            <p:cNvPr id="225" name=""/>
            <p:cNvSpPr/>
            <p:nvPr/>
          </p:nvSpPr>
          <p:spPr>
            <a:xfrm flipV="1">
              <a:off x="8080920" y="1981800"/>
              <a:ext cx="163800" cy="6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8080920" y="1983600"/>
              <a:ext cx="33480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8080920" y="1981800"/>
              <a:ext cx="502560" cy="27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080920" y="1983240"/>
              <a:ext cx="670680" cy="38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8080920" y="1983240"/>
              <a:ext cx="841320" cy="48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77320" y="1981080"/>
              <a:ext cx="849240" cy="528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8163720" y="2089080"/>
              <a:ext cx="75708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334360" y="2194200"/>
              <a:ext cx="58788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503560" y="2264760"/>
              <a:ext cx="417240" cy="24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673120" y="2372040"/>
              <a:ext cx="24912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840880" y="2441880"/>
              <a:ext cx="7992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92240" y="1985040"/>
              <a:ext cx="0" cy="52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43160" y="1985040"/>
              <a:ext cx="0" cy="52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796240" y="1985040"/>
              <a:ext cx="0" cy="52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82360" y="2157840"/>
              <a:ext cx="84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82360" y="2263680"/>
              <a:ext cx="840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82360" y="2369160"/>
              <a:ext cx="840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82360" y="2474640"/>
              <a:ext cx="84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82360" y="2050920"/>
              <a:ext cx="84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624720" y="3916440"/>
            <a:ext cx="1142640" cy="633960"/>
            <a:chOff x="6624720" y="3916440"/>
            <a:chExt cx="1142640" cy="633960"/>
          </a:xfrm>
        </p:grpSpPr>
        <p:sp>
          <p:nvSpPr>
            <p:cNvPr id="245" name=""/>
            <p:cNvSpPr/>
            <p:nvPr/>
          </p:nvSpPr>
          <p:spPr>
            <a:xfrm>
              <a:off x="6624720" y="3916440"/>
              <a:ext cx="172080" cy="63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2200" y="4302000"/>
              <a:ext cx="965160" cy="24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02200" y="4136040"/>
              <a:ext cx="965160" cy="19476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873840" y="4902120"/>
            <a:ext cx="1020600" cy="585000"/>
            <a:chOff x="6873840" y="4902120"/>
            <a:chExt cx="1020600" cy="585000"/>
          </a:xfrm>
        </p:grpSpPr>
        <p:sp>
          <p:nvSpPr>
            <p:cNvPr id="249" name=""/>
            <p:cNvSpPr/>
            <p:nvPr/>
          </p:nvSpPr>
          <p:spPr>
            <a:xfrm>
              <a:off x="6873840" y="5110920"/>
              <a:ext cx="706680" cy="10404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9600" y="5223600"/>
              <a:ext cx="695520" cy="18936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31"/>
            <a:stretch/>
          </p:blipFill>
          <p:spPr>
            <a:xfrm>
              <a:off x="7467480" y="5181840"/>
              <a:ext cx="33732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2"/>
            <a:stretch/>
          </p:blipFill>
          <p:spPr>
            <a:xfrm>
              <a:off x="7467480" y="5286600"/>
              <a:ext cx="426960" cy="2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410960" y="5327640"/>
              <a:ext cx="164160" cy="85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3840" y="4902120"/>
              <a:ext cx="706680" cy="208800"/>
            </a:xfrm>
            <a:prstGeom prst="rtTriangl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3840" y="4910040"/>
              <a:ext cx="0" cy="30456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79600" y="4910040"/>
              <a:ext cx="700920" cy="20052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80520" y="5118840"/>
              <a:ext cx="0" cy="9576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8" name=""/>
          <p:cNvCxnSpPr>
            <a:stCxn id="122" idx="3"/>
          </p:cNvCxnSpPr>
          <p:nvPr/>
        </p:nvCxnSpPr>
        <p:spPr>
          <a:xfrm flipV="1">
            <a:off x="3710160" y="4363200"/>
            <a:ext cx="1651680" cy="3960"/>
          </a:xfrm>
          <a:prstGeom prst="bentConnector3">
            <a:avLst>
              <a:gd name="adj1" fmla="val 49901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132" idx="3"/>
          </p:cNvCxnSpPr>
          <p:nvPr/>
        </p:nvCxnSpPr>
        <p:spPr>
          <a:xfrm flipV="1">
            <a:off x="3594240" y="4361760"/>
            <a:ext cx="1776960" cy="261000"/>
          </a:xfrm>
          <a:prstGeom prst="bentConnector3">
            <a:avLst>
              <a:gd name="adj1" fmla="val 30455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174" idx="3"/>
            <a:endCxn id="230" idx="1"/>
          </p:cNvCxnSpPr>
          <p:nvPr/>
        </p:nvCxnSpPr>
        <p:spPr>
          <a:xfrm flipV="1">
            <a:off x="4924440" y="2246040"/>
            <a:ext cx="3124800" cy="1581840"/>
          </a:xfrm>
          <a:prstGeom prst="bentConnector3">
            <a:avLst>
              <a:gd name="adj1" fmla="val 50455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174" idx="3"/>
            <a:endCxn id="262" idx="1"/>
          </p:cNvCxnSpPr>
          <p:nvPr/>
        </p:nvCxnSpPr>
        <p:spPr>
          <a:xfrm flipV="1">
            <a:off x="4924440" y="2471760"/>
            <a:ext cx="1945440" cy="1356120"/>
          </a:xfrm>
          <a:prstGeom prst="bentConnector3">
            <a:avLst>
              <a:gd name="adj1" fmla="val 49953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174" idx="3"/>
            <a:endCxn id="245" idx="1"/>
          </p:cNvCxnSpPr>
          <p:nvPr/>
        </p:nvCxnSpPr>
        <p:spPr>
          <a:xfrm>
            <a:off x="4924080" y="3827160"/>
            <a:ext cx="1701000" cy="407160"/>
          </a:xfrm>
          <a:prstGeom prst="bentConnector3">
            <a:avLst>
              <a:gd name="adj1" fmla="val 49936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65" idx="3"/>
            <a:endCxn id="266" idx="1"/>
          </p:cNvCxnSpPr>
          <p:nvPr/>
        </p:nvCxnSpPr>
        <p:spPr>
          <a:xfrm>
            <a:off x="5035680" y="3749760"/>
            <a:ext cx="2000880" cy="1356120"/>
          </a:xfrm>
          <a:prstGeom prst="bentConnector3">
            <a:avLst>
              <a:gd name="adj1" fmla="val 49919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174" idx="3"/>
            <a:endCxn id="180" idx="0"/>
          </p:cNvCxnSpPr>
          <p:nvPr/>
        </p:nvCxnSpPr>
        <p:spPr>
          <a:xfrm>
            <a:off x="4924440" y="3827520"/>
            <a:ext cx="745200" cy="327600"/>
          </a:xfrm>
          <a:prstGeom prst="bentConnector2">
            <a:avLst/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8367840" y="4116240"/>
            <a:ext cx="166680" cy="150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91520" y="4267080"/>
            <a:ext cx="333360" cy="225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1880" y="4497480"/>
            <a:ext cx="8280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116" idx="3"/>
          </p:cNvCxnSpPr>
          <p:nvPr/>
        </p:nvCxnSpPr>
        <p:spPr>
          <a:xfrm>
            <a:off x="2960640" y="4111200"/>
            <a:ext cx="2463120" cy="253080"/>
          </a:xfrm>
          <a:prstGeom prst="bentConnector3">
            <a:avLst>
              <a:gd name="adj1" fmla="val 49963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116" idx="3"/>
            <a:endCxn id="173" idx="1"/>
          </p:cNvCxnSpPr>
          <p:nvPr/>
        </p:nvCxnSpPr>
        <p:spPr>
          <a:xfrm flipV="1">
            <a:off x="2960640" y="3794040"/>
            <a:ext cx="1356120" cy="317880"/>
          </a:xfrm>
          <a:prstGeom prst="bentConnector3">
            <a:avLst>
              <a:gd name="adj1" fmla="val 49893"/>
            </a:avLst>
          </a:prstGeom>
          <a:ln w="9360">
            <a:solidFill>
              <a:srgbClr val="aec0ce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1243080" y="1828800"/>
            <a:ext cx="3792600" cy="3840120"/>
          </a:xfrm>
          <a:prstGeom prst="rect">
            <a:avLst/>
          </a:prstGeom>
          <a:noFill/>
          <a:ln w="9360">
            <a:solidFill>
              <a:srgbClr val="aec0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22920" y="1828800"/>
            <a:ext cx="1528560" cy="3840120"/>
          </a:xfrm>
          <a:prstGeom prst="rect">
            <a:avLst/>
          </a:prstGeom>
          <a:noFill/>
          <a:ln w="9360">
            <a:solidFill>
              <a:srgbClr val="aec0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35840" y="4983120"/>
            <a:ext cx="21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69160" y="2349360"/>
            <a:ext cx="21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1240" y="5981760"/>
            <a:ext cx="731520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aec0ce"/>
                </a:solidFill>
                <a:latin typeface="Arial"/>
                <a:ea typeface="Arial"/>
              </a:rPr>
              <a:t>                   </a:t>
            </a:r>
            <a:r>
              <a:rPr b="1" lang="it-IT" sz="1000" spc="-1" strike="noStrike">
                <a:solidFill>
                  <a:srgbClr val="aec0ce"/>
                </a:solidFill>
                <a:latin typeface="Arial"/>
                <a:ea typeface="Arial"/>
              </a:rPr>
              <a:t>TL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065960" y="5981760"/>
            <a:ext cx="1546200" cy="3398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aec0ce"/>
                </a:solidFill>
                <a:latin typeface="Arial"/>
                <a:ea typeface="Arial"/>
              </a:rPr>
              <a:t>TL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92760" y="5216400"/>
            <a:ext cx="139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O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268272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72320" y="3643200"/>
            <a:ext cx="1076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EN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0640" y="4525920"/>
            <a:ext cx="1552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I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65920" y="5397480"/>
            <a:ext cx="982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51000" y="5143680"/>
            <a:ext cx="247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475840" y="4492800"/>
            <a:ext cx="82440" cy="15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91600" y="3527280"/>
            <a:ext cx="166680" cy="150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3887640"/>
            <a:ext cx="8280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58200" y="3887640"/>
            <a:ext cx="8244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91520" y="3668760"/>
            <a:ext cx="333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85040" y="2367000"/>
            <a:ext cx="21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97640" y="3279600"/>
            <a:ext cx="21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90" idx="3"/>
            <a:endCxn id="230" idx="1"/>
          </p:cNvCxnSpPr>
          <p:nvPr/>
        </p:nvCxnSpPr>
        <p:spPr>
          <a:xfrm flipV="1">
            <a:off x="7748280" y="2246040"/>
            <a:ext cx="300600" cy="2069280"/>
          </a:xfrm>
          <a:prstGeom prst="bentConnector3">
            <a:avLst>
              <a:gd name="adj1" fmla="val 54436"/>
            </a:avLst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7537320" y="4192560"/>
            <a:ext cx="21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92" idx="3"/>
            <a:endCxn id="230" idx="1"/>
          </p:cNvCxnSpPr>
          <p:nvPr/>
        </p:nvCxnSpPr>
        <p:spPr>
          <a:xfrm flipV="1">
            <a:off x="7645320" y="2246040"/>
            <a:ext cx="403920" cy="2969280"/>
          </a:xfrm>
          <a:prstGeom prst="bentConnector3">
            <a:avLst>
              <a:gd name="adj1" fmla="val 53077"/>
            </a:avLst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7434360" y="5092560"/>
            <a:ext cx="21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30" idx="1"/>
          </p:cNvCxnSpPr>
          <p:nvPr/>
        </p:nvCxnSpPr>
        <p:spPr>
          <a:xfrm flipV="1">
            <a:off x="7645320" y="2246040"/>
            <a:ext cx="403920" cy="2969280"/>
          </a:xfrm>
          <a:prstGeom prst="bentConnector3">
            <a:avLst>
              <a:gd name="adj1" fmla="val 53077"/>
            </a:avLst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 flipH="1">
            <a:off x="6477840" y="5981760"/>
            <a:ext cx="1398600" cy="3398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aec0ce"/>
                </a:solidFill>
                <a:latin typeface="Arial"/>
                <a:ea typeface="Arial"/>
              </a:rPr>
              <a:t>      </a:t>
            </a:r>
            <a:r>
              <a:rPr b="1" lang="it-IT" sz="1000" spc="-1" strike="noStrike">
                <a:solidFill>
                  <a:srgbClr val="aec0ce"/>
                </a:solidFill>
                <a:latin typeface="Arial"/>
                <a:ea typeface="Arial"/>
              </a:rPr>
              <a:t>TL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62103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62103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694560" y="3052800"/>
            <a:ext cx="849240" cy="528480"/>
            <a:chOff x="6694560" y="3052800"/>
            <a:chExt cx="849240" cy="528480"/>
          </a:xfrm>
        </p:grpSpPr>
        <p:sp>
          <p:nvSpPr>
            <p:cNvPr id="298" name=""/>
            <p:cNvSpPr/>
            <p:nvPr/>
          </p:nvSpPr>
          <p:spPr>
            <a:xfrm flipV="1">
              <a:off x="6698160" y="3053520"/>
              <a:ext cx="163800" cy="6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698160" y="3054960"/>
              <a:ext cx="334800" cy="17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698160" y="3053520"/>
              <a:ext cx="502560" cy="27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698160" y="3054960"/>
              <a:ext cx="670680" cy="38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698160" y="3055320"/>
              <a:ext cx="84132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94560" y="3052800"/>
              <a:ext cx="849240" cy="528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780960" y="3160440"/>
              <a:ext cx="75708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951600" y="3266280"/>
              <a:ext cx="58788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120800" y="3336120"/>
              <a:ext cx="41724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290360" y="3443400"/>
              <a:ext cx="24912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458120" y="3513240"/>
              <a:ext cx="7992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09480" y="3056760"/>
              <a:ext cx="0" cy="52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60400" y="3056760"/>
              <a:ext cx="0" cy="52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13480" y="3056760"/>
              <a:ext cx="0" cy="52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99600" y="3229560"/>
              <a:ext cx="84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99600" y="3335040"/>
              <a:ext cx="840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99600" y="3440520"/>
              <a:ext cx="840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99600" y="3546000"/>
              <a:ext cx="84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99600" y="3122640"/>
              <a:ext cx="84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84582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567684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he TL20 travels with the package to monitor temperature across the cool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mperature Logger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195120"/>
            <a:ext cx="5475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Building &amp; Commercial Service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3300" t="16136" r="19670" b="14914"/>
          <a:stretch/>
        </p:blipFill>
        <p:spPr>
          <a:xfrm>
            <a:off x="7124760" y="162000"/>
            <a:ext cx="1820880" cy="1222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054080" y="2048040"/>
            <a:ext cx="6886440" cy="4441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54120" y="1568520"/>
            <a:ext cx="8259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24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Controle y guarde su información a través de nuestro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 rot="19406400">
            <a:off x="6558120" y="5175000"/>
            <a:ext cx="183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Y FACIL</a:t>
            </a:r>
            <a:endParaRPr b="0" lang="en-US" sz="2400" spc="1" strike="noStrike">
              <a:ln w="1908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 USAR</a:t>
            </a:r>
            <a:endParaRPr b="0" lang="en-US" sz="2400" spc="1" strike="noStrike">
              <a:ln w="1908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mperature Logger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95120"/>
            <a:ext cx="5475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Building &amp; Commercial Service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3300" t="16136" r="19670" b="14914"/>
          <a:stretch/>
        </p:blipFill>
        <p:spPr>
          <a:xfrm>
            <a:off x="7124760" y="162000"/>
            <a:ext cx="1820880" cy="1222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44360" y="1081080"/>
            <a:ext cx="6905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24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Grafique según sus standares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777960" y="1585800"/>
            <a:ext cx="7313400" cy="499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mperature Logger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95120"/>
            <a:ext cx="5475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Building &amp; Commercial Service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rcRect l="3300" t="16136" r="19670" b="14914"/>
          <a:stretch/>
        </p:blipFill>
        <p:spPr>
          <a:xfrm>
            <a:off x="7124760" y="162000"/>
            <a:ext cx="1820880" cy="1222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9040" y="1766880"/>
            <a:ext cx="69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Identifique cada T Logger para su mejor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82640" y="2577960"/>
            <a:ext cx="3998880" cy="2606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43360" y="2535120"/>
            <a:ext cx="914400" cy="2719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73680" y="3911760"/>
            <a:ext cx="1017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7960" y="37130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ID de cada equ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mperature Logger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95120"/>
            <a:ext cx="5475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Building &amp; Commercial Service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rcRect l="3300" t="16136" r="19670" b="14914"/>
          <a:stretch/>
        </p:blipFill>
        <p:spPr>
          <a:xfrm>
            <a:off x="7124760" y="162000"/>
            <a:ext cx="1820880" cy="1222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57200" y="1560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Utilizable en diferentes segmentos y cadenas de abast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3800" y="2330280"/>
            <a:ext cx="741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Industria Pesqu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Industria Cárnica y Avi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Productos Lact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Frutas y Ver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Productos Farmaceuticos y Quí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Cualquier producto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i="1" lang="es-AR" sz="1800" spc="-1" strike="noStrike">
                <a:solidFill>
                  <a:srgbClr val="4d4d4d"/>
                </a:solidFill>
                <a:latin typeface="Arial"/>
                <a:ea typeface="Arial"/>
              </a:rPr>
              <a:t>Utilizable para chequeo de funcionamiento de cámaras de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79246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mperature Logger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195120"/>
            <a:ext cx="5475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Narrow"/>
                <a:ea typeface="Arial"/>
              </a:rPr>
              <a:t>3M Building &amp; Commercial Service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rcRect l="3300" t="16136" r="19670" b="14914"/>
          <a:stretch/>
        </p:blipFill>
        <p:spPr>
          <a:xfrm>
            <a:off x="7124760" y="162000"/>
            <a:ext cx="1820880" cy="1222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55760" y="1289160"/>
            <a:ext cx="8454960" cy="52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Precio del 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5 Equipos T Log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1 Juego de cables de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U$S 197 + 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(Consulte precios por cantidad de equip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  <a:ea typeface="Arial"/>
              </a:rPr>
              <a:t>NO DUDE EN LLAMARNOS PARA PRUEBAS DE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Lic Hernán Ordóñe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Sales Represen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15 5 947 15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</cp:lastModifiedBy>
  <cp:lastPrinted>2006-11-20T19:27:20Z</cp:lastPrinted>
  <dcterms:modified xsi:type="dcterms:W3CDTF">2010-01-04T16:16:35Z</dcterms:modified>
  <cp:revision>46</cp:revision>
  <dc:subject/>
  <dc:title>Standards &amp; Guidelines for Creating Presentations using the 3M Identity System</dc:title>
</cp:coreProperties>
</file>