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506F-5B3A-448C-B3FA-66E141E1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D9CC-F244-4956-9325-ECD03AE3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9D65-0EB8-490D-B59F-62A049A2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F036-4BF8-4B53-8E1E-785A05EA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C039-5A05-42A6-86A9-D46C3398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418E-46AE-447C-80FA-7A9C92B7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BF5E-8046-4A79-9FF5-D628ECD7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CAC5-11C0-4E75-B997-3C43EBC1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FADC-EE51-4FE5-BF98-E399B542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E3DC-F7C1-42B2-8D19-07DEBCE4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D690-696F-4A69-BEA3-7CF7B265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CC44-B4C9-46CF-BA06-DDC8AE2F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780A-A2FC-42B1-A250-8DBFBA72E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4255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Logo3Mtt"/>
              </a:rPr>
              <a:t>3</a:t>
            </a:r>
            <a:r>
              <a:rPr b="1" lang="es-AR" sz="4000" spc="-1" strike="noStrike">
                <a:solidFill>
                  <a:srgbClr val="000000"/>
                </a:solidFill>
                <a:latin typeface="Times New Roman"/>
              </a:rPr>
              <a:t>SAFETY-WAL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477120" y="6324480"/>
          <a:ext cx="2361960" cy="3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324480"/>
                    <a:ext cx="236196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828800" y="1523880"/>
          <a:ext cx="4981680" cy="37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523880"/>
                    <a:ext cx="49816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1828800" y="5257800"/>
            <a:ext cx="4952880" cy="550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000" spc="-1" strike="noStrike">
                <a:solidFill>
                  <a:srgbClr val="ffffff"/>
                </a:solidFill>
                <a:latin typeface="Times New Roman"/>
              </a:rPr>
              <a:t>Materiales Antidesliza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952880" y="155520"/>
          <a:ext cx="3962520" cy="31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55520"/>
                    <a:ext cx="3962520" cy="31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6688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971800"/>
            <a:ext cx="8305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Times New Roman"/>
              </a:rPr>
              <a:t>Están hechos de polímeros flexibles texturizados o partículas minerales duras con un adhesivo fuerte en el revers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Times New Roman"/>
              </a:rPr>
              <a:t>Son dur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Times New Roman"/>
              </a:rPr>
              <a:t>Son antideslizantes aún en áreas donde hay agua,aceite,grasa y otros quím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Times New Roman"/>
              </a:rPr>
              <a:t>Hay de textura suave para caminar descalzo o resistente para áreas muy transitad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Times New Roman"/>
              </a:rPr>
              <a:t>Se aplican como una cinta, sobre superficies limpias, secas y lis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781680" y="6477120"/>
          <a:ext cx="236232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6477120"/>
                    <a:ext cx="236232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304920" y="99072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000" spc="-1" strike="noStrike">
                <a:solidFill>
                  <a:srgbClr val="000000"/>
                </a:solidFill>
                <a:latin typeface="Times New Roman"/>
              </a:rPr>
              <a:t>Ayudan a prevenir costosos accidentes y a aumentar la productividad en el trabaj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320" y="38088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riedad de Modelos </a:t>
            </a:r>
            <a:r>
              <a:rPr b="1" lang="en-US" sz="4000" spc="-1" strike="noStrike">
                <a:solidFill>
                  <a:srgbClr val="ff0000"/>
                </a:solidFill>
                <a:latin typeface="Logo3Mtt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81680" y="6477120"/>
          <a:ext cx="2362320" cy="3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6477120"/>
                    <a:ext cx="236232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0" y="2743200"/>
            <a:ext cx="67057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46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4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enen superficie de  mineral abr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4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paldo con adhe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4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 usa sobre superficies planas y li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4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 zonas de trabajo y áreas de tráfico pesado como rampas, pasillos, andenes de carga o sobre equipos y vehícu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4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 pisos duros como: mármol, vinílico, madera y 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4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licable en exteriores e i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4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 pisos porosos se recomienda utilizar el Primer 3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2438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000000"/>
                </a:solidFill>
                <a:uFillTx/>
                <a:latin typeface="Times New Roman"/>
              </a:rPr>
              <a:t>Antideslizantes de Uso General:</a:t>
            </a:r>
            <a:r>
              <a:rPr b="1" i="1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588000" y="2997360"/>
          <a:ext cx="2345040" cy="32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2997360"/>
                    <a:ext cx="234504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148360" y="1844640"/>
          <a:ext cx="2590560" cy="172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1844640"/>
                    <a:ext cx="259056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981080"/>
            <a:ext cx="5175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80440" indent="-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or su respaldo de aluminio, se amolda y toma la forma de la superficie donde se coloque, se puede doblar, poner en ángulo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0440" indent="-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Superficie de mineral abrasivo:gran capacidad de agar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0440" indent="-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Se puede usar inmediatamente despues de su insta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0440" indent="-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xcelente resistencia al aceite y al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0440" indent="-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Aplicaciones: en escaleras, peldaños,chapas,estribos o cualquier superficie irre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219320"/>
            <a:ext cx="41148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200" spc="-1" strike="noStrike" u="sng">
                <a:solidFill>
                  <a:srgbClr val="000000"/>
                </a:solidFill>
                <a:uFillTx/>
                <a:latin typeface="Times New Roman"/>
              </a:rPr>
              <a:t>Safety Walk Conformab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781680" y="6477120"/>
          <a:ext cx="2362320" cy="3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6477120"/>
                    <a:ext cx="236232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084720" y="3933720"/>
          <a:ext cx="2286000" cy="227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3933720"/>
                    <a:ext cx="2286000" cy="22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588000" y="1413000"/>
          <a:ext cx="1874880" cy="22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88000" y="1413000"/>
                    <a:ext cx="187488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685800"/>
            <a:ext cx="48769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olímero texturizado para áreas de bajo y mediano tráfico, donde la gente pueda caminar descal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eviene las caídas y resbal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Respaldo con adhe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Aplicaciones: en exteriores e interiores, en áreas de pileta, vestidores, estribos de lanchas, yates,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"/>
            <a:ext cx="28195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200" spc="-1" strike="noStrike" u="sng">
                <a:solidFill>
                  <a:srgbClr val="000000"/>
                </a:solidFill>
                <a:uFillTx/>
                <a:latin typeface="Times New Roman"/>
              </a:rPr>
              <a:t>Safety Walk Resilen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781680" y="6477120"/>
          <a:ext cx="2362320" cy="3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6477120"/>
                    <a:ext cx="236232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334120" y="115920"/>
          <a:ext cx="203364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115920"/>
                    <a:ext cx="20336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457200" y="4267080"/>
            <a:ext cx="4572000" cy="19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200" spc="-1" strike="noStrike" u="sng">
                <a:solidFill>
                  <a:srgbClr val="000000"/>
                </a:solidFill>
                <a:uFillTx/>
                <a:latin typeface="Times New Roman"/>
              </a:rPr>
              <a:t>Safety Walk Fotoluminiscen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Brilla en la oscur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Superficie autoadhesiva de poliester recubierta con mineral antideslizante, y laminada con una linea fotoluminisc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292720" y="4797360"/>
          <a:ext cx="1776240" cy="162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4797360"/>
                    <a:ext cx="1776240" cy="16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6588000" y="2300400"/>
            <a:ext cx="21114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2T21:27:23Z</dcterms:created>
  <dc:creator>USUARIO 3M</dc:creator>
  <dc:description/>
  <dc:language>en-US</dc:language>
  <cp:lastModifiedBy>ar399914</cp:lastModifiedBy>
  <cp:lastPrinted>2001-06-13T13:58:23Z</cp:lastPrinted>
  <dcterms:modified xsi:type="dcterms:W3CDTF">2007-04-23T15:39:57Z</dcterms:modified>
  <cp:revision>78</cp:revision>
  <dc:subject/>
  <dc:title>3  Sistema Integral de Limpieza Institucional</dc:title>
</cp:coreProperties>
</file>